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734-DF8B-4D2F-B8DF-D5552187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BC4-7202-44B2-BC57-634B3A3F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584-B65D-4CBA-B6CA-CF4D2BA5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A6E-6184-4004-B3B3-2C92100E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997-E30D-4FEE-805E-D3870A5C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186-3289-494B-BCBD-17EC24DF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514-B118-404D-BA49-4B96A122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831-41E7-4E4F-8D0F-1F4FB90D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43C-2C0C-4028-BE4F-93D23ED5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22B-429C-4A07-8268-420C7F3C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7D7-C91F-431B-A829-AF9EE429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087-E252-4CBE-849A-5649EF40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1F46-39A9-44DF-A9AC-A8171BF06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8388360" cy="607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751-9E1F-48EF-92B6-CD7D7D5D3A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007480" cy="614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DB8-9553-4A9C-8C4D-F208756F52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15472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6FF-4B01-4158-87A2-E0382E9D31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151840" cy="603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DC3-E032-4D80-A4C2-B44452DDFB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77888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C1E-31FD-46BC-8D79-D62A61EA65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3104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11E-3314-46F7-9890-967D51316B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088480" cy="61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6FA-EE50-42B7-88C8-0F0979DB08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93908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28B-231C-48B5-AF77-A0E8A2EF2D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834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786-FB19-4ED7-B3BE-B9DEE9353F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159760" cy="613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576-E54E-4393-81A8-CDBAC0CF1C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078760" cy="630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D25-149C-4E9E-AE28-A60B907D0D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42840"/>
            <a:ext cx="8012160" cy="628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FCB-DA44-4525-AA38-96D866CCFF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8960" y="-171360"/>
            <a:ext cx="8231040" cy="620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488-A1A1-4AF4-BBC1-EB6B4FFD58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3360" y="44280"/>
            <a:ext cx="8126280" cy="621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E01-8454-4E1F-9C40-D203BF6A62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854840" cy="606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AA0-F18C-4B8D-A5F0-86F237DABD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939080" cy="61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605-7ED4-4F86-A419-1B0220D278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936200" cy="59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0B0-DFC0-416A-ABBF-F9B38C5785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159760" cy="607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5BB5-F720-4269-A04C-1E740292C8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31160" cy="60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ED3-3DDB-4989-9C9A-3A7043121B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31160" cy="602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DB5-CE53-409A-8A7F-1D52B08CBE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83440" cy="610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09E-343E-4AAA-AF4C-52EBCCE79D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-27000"/>
            <a:ext cx="7854840" cy="62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963-048C-48D9-BCB6-E3B08374B9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923240" cy="626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AD1-1EA1-4BC2-BC6B-0A89F769D6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44280"/>
            <a:ext cx="8155080" cy="614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04B-0AD5-493B-B02D-3565592773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939080" cy="609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98C-CBE3-4A20-9475-3D21C9D5B2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8459640" cy="62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E8E-9C9A-4BC4-B26C-D5B2F9CFF4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-100080"/>
            <a:ext cx="8075520" cy="634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F2A-8B30-4EE9-B90A-FBFB5DABF5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8459640" cy="644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E0A-8F96-4F9F-B2B0-6FA7876CF9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-100080"/>
            <a:ext cx="837072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1BB-F507-48FB-925F-00FAAFCC53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44280"/>
            <a:ext cx="8075520" cy="618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6CC-FD94-4802-B481-04BDE05830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360" y="0"/>
            <a:ext cx="8234640" cy="629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1A9-84A1-4C75-8E02-0C37CBF8EC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07480" cy="606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400-BD74-4674-8DF3-7AB74449C3E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17080" cy="61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119-3374-42F9-A4F3-62B576930A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078760" cy="572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CA5-B737-439C-A968-633D7D9B33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17080" cy="633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742-BFE1-4377-A5DB-673C8B08246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28160" cy="640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5C6-7A0A-4A5E-8211-4A552BF5DED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-27000"/>
            <a:ext cx="8299440" cy="634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235-D20F-4740-86FA-DE89FF4CCB3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41120"/>
            <a:ext cx="836784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688-D04F-41FB-8F9A-F8C9EEA3C4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854840" cy="601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D92-339D-4F33-A2D9-1E9ABEA915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12160" cy="61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7035-E4E0-4395-B5C0-FD41D2A621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936200" cy="616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CD0-5FDF-4CDE-8EF2-BBC7DE7432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859880" cy="60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96E-7B36-4ABF-832A-FEF8D6E709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21:53:12Z</dcterms:created>
  <dc:creator>Jonathan Wolfe</dc:creator>
  <dc:description/>
  <dc:language>en-US</dc:language>
  <cp:lastModifiedBy>Jonathan Wolfe</cp:lastModifiedBy>
  <dcterms:modified xsi:type="dcterms:W3CDTF">2005-10-17T16:45:29Z</dcterms:modified>
  <cp:revision>4</cp:revision>
  <dc:subject/>
  <dc:title>Slide 1</dc:title>
</cp:coreProperties>
</file>