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jpeg" ContentType="image/jpeg"/>
  <Override PartName="/ppt/media/image23.png" ContentType="image/png"/>
  <Override PartName="/ppt/media/image6.wmf" ContentType="image/x-wmf"/>
  <Override PartName="/ppt/media/image29.wmf" ContentType="image/x-wmf"/>
  <Override PartName="/ppt/media/image12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31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0292-9817-4F1B-8072-A2C9CD1C5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405576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3856-866D-4832-9E75-24F41B784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8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C928-C24F-4588-A553-FD0BBBFFB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2496-52D5-4B2D-ABCB-0C4FC2A2D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0A0D-EBE2-4418-9DC7-EC8A79916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2BFA-0164-40E6-8E44-384108A67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7CD5-3C0D-49A1-9A9D-C8628F877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F600-7004-43F3-8C1B-A9FD4BCEB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90480" y="75240"/>
            <a:ext cx="7763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F593-6DBC-4280-B1A4-9FF2D603C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83F1-4F3E-4C47-AA99-649818BC4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8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685E-7988-40E7-A82C-2ECD0F06A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86F3-E2B7-405B-9C6A-DBE8A3950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4440" indent="-223560">
              <a:spcBef>
                <a:spcPts val="774"/>
              </a:spcBef>
              <a:buClr>
                <a:srgbClr val="000000"/>
              </a:buClr>
              <a:buFont typeface="Lucida Grande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2120">
              <a:spcBef>
                <a:spcPts val="774"/>
              </a:spcBef>
              <a:buClr>
                <a:srgbClr val="000000"/>
              </a:buClr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312840"/>
            <a:ext cx="0" cy="5340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62000" y="6697800"/>
            <a:ext cx="77691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840" y="830160"/>
            <a:ext cx="85359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600" y="-44280"/>
            <a:ext cx="223920" cy="2491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E93874B2-7650-4BE6-88CC-18B1D18A5D4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6320" y="6095880"/>
            <a:ext cx="914400" cy="68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04120"/>
            <a:ext cx="9144000" cy="15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900" spc="-1" strike="noStrike">
                <a:solidFill>
                  <a:srgbClr val="fff760"/>
                </a:solidFill>
                <a:latin typeface="Arial"/>
              </a:rPr>
              <a:t>Derivation of Winds and Uncertainties</a:t>
            </a:r>
            <a:r>
              <a:rPr b="0" lang="en-US" sz="3900" spc="-1" strike="noStrike">
                <a:solidFill>
                  <a:srgbClr val="fff760"/>
                </a:solidFill>
                <a:latin typeface="Arial Narrow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GulimChe"/>
              </a:rPr>
              <a:t>by</a:t>
            </a:r>
            <a:br>
              <a:rPr sz="22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GulimChe"/>
              </a:rPr>
              <a:t>Wen-Chau Le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GulimChe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GulimChe"/>
              </a:rPr>
              <a:t>NCAR/EOL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3504960"/>
            <a:ext cx="746748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ordinate Systems and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ircraft Motion Remo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vigation Corr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seudo-dual Doppler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E807-BAF9-4CAE-8F3A-5020C536D21F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8640" y="231840"/>
            <a:ext cx="7686720" cy="47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Narrow"/>
              </a:rPr>
              <a:t>Uncertainties in INS and Antenna Pointing Angles</a:t>
            </a:r>
            <a:endParaRPr b="0" lang="en-US" sz="3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893960"/>
            <a:ext cx="6856560" cy="34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velocity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ft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 vertical velocity (W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/spin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12320" y="1125360"/>
            <a:ext cx="418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/Instrument Err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4880" y="4840200"/>
            <a:ext cx="7821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errors (e.g., mounting errors) in the order of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9175-8612-4EFD-AC60-155133B641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Spherical Trigonometry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03160" y="1071720"/>
          <a:ext cx="434520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071720"/>
                    <a:ext cx="43452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280120" y="1050840"/>
          <a:ext cx="296388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0120" y="1050840"/>
                    <a:ext cx="2963880" cy="304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8222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21280" y="4859280"/>
            <a:ext cx="181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pin/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4640" y="4630680"/>
            <a:ext cx="264492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-track-relative t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zim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: 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6022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ud et al.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EEF3-4E08-4F48-9942-F3BB7A3E6C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Velocity Error Analysi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57280" y="1017720"/>
          <a:ext cx="655344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017720"/>
                    <a:ext cx="6553440" cy="207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14200" y="1393920"/>
            <a:ext cx="23036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and measured aircraft ground speed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11280" y="3429000"/>
          <a:ext cx="6553440" cy="29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429000"/>
                    <a:ext cx="6553440" cy="293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EEBC-2C49-49F7-8EF1-3006C0DB75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2040"/>
            <a:ext cx="43941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Range Error Analysi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8200" y="1214280"/>
          <a:ext cx="3770280" cy="27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214280"/>
                    <a:ext cx="3770280" cy="2756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94160" y="214200"/>
          <a:ext cx="2286000" cy="18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4160" y="214200"/>
                    <a:ext cx="2286000" cy="1825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121280" y="2133720"/>
          <a:ext cx="501624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1280" y="2133720"/>
                    <a:ext cx="5016240" cy="1841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755400" y="857160"/>
            <a:ext cx="241632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 gate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ctual distanc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eam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4179960"/>
          <a:ext cx="7283520" cy="238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179960"/>
                    <a:ext cx="7283520" cy="238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28600" y="37339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ud et al.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398F-08CD-4690-AD75-DC214E66BE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0480" y="11016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Resulting Coefficient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09520" y="1125360"/>
          <a:ext cx="6924960" cy="13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125360"/>
                    <a:ext cx="6924960" cy="1395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11160" y="2840040"/>
          <a:ext cx="3505320" cy="18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1160" y="2840040"/>
                    <a:ext cx="3505320" cy="1884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14920" y="2840040"/>
          <a:ext cx="3048120" cy="18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4920" y="2840040"/>
                    <a:ext cx="3048120" cy="183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49440" y="4983120"/>
            <a:ext cx="77914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certainties in determination of A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1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certainties in determination of C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D1CF-66A3-4C8F-8210-784877C9E6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8600" y="358920"/>
            <a:ext cx="366876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bine fore and aft dat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320" y="914400"/>
          <a:ext cx="44701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4470120" cy="5943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rcRect l="0" t="0" r="7173" b="7164"/>
          <a:stretch/>
        </p:blipFill>
        <p:spPr>
          <a:xfrm>
            <a:off x="4686480" y="911160"/>
            <a:ext cx="4457520" cy="5946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6" name=""/>
          <p:cNvSpPr/>
          <p:nvPr/>
        </p:nvSpPr>
        <p:spPr>
          <a:xfrm>
            <a:off x="4572000" y="313200"/>
            <a:ext cx="43750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7240" indent="-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iginal and final cor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914400"/>
            <a:ext cx="12193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ud et al. 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914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3FAC-3D64-4C57-B8AA-B76E6C22B9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Correction Factors for VORTEX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95200" y="1182600"/>
          <a:ext cx="8553600" cy="44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182600"/>
                    <a:ext cx="8553600" cy="4492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305920" y="5440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46C4-1AAD-4C00-8D22-B9FDEF22EEA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9920" y="947880"/>
            <a:ext cx="6384960" cy="561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4" name=""/>
          <p:cNvSpPr/>
          <p:nvPr/>
        </p:nvSpPr>
        <p:spPr>
          <a:xfrm>
            <a:off x="1295280" y="9144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ud et al.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DD7E-809D-4DAF-9EFF-BF0C8793640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9920"/>
            <a:ext cx="7772400" cy="51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Navigation Correction Over Moving Surface: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71600" y="914400"/>
          <a:ext cx="586728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5867280" cy="1860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075320" y="2895480"/>
            <a:ext cx="63072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zero and cannot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733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7240" indent="-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Navigation Correction Over Complex Terr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8381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include digital terrain 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ange equ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C5F7-441F-48A0-B55F-890C0E9FCD4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FASTEX Exampl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Page%201" descr=""/>
          <p:cNvPicPr/>
          <p:nvPr/>
        </p:nvPicPr>
        <p:blipFill>
          <a:blip r:embed="rId1"/>
          <a:srcRect l="5523" t="0" r="4295" b="0"/>
          <a:stretch/>
        </p:blipFill>
        <p:spPr>
          <a:xfrm>
            <a:off x="76320" y="914400"/>
            <a:ext cx="3832200" cy="594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3" name="Page%202" descr=""/>
          <p:cNvPicPr/>
          <p:nvPr/>
        </p:nvPicPr>
        <p:blipFill>
          <a:blip r:embed="rId2"/>
          <a:stretch/>
        </p:blipFill>
        <p:spPr>
          <a:xfrm>
            <a:off x="5008680" y="914400"/>
            <a:ext cx="4068720" cy="594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0" y="868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art et al.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86832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art et al.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AEF2-7552-4A6E-81E3-ECA05DE29A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5280"/>
            <a:ext cx="777240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Inertial Navigation System  (Axford 1968)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6880" y="990720"/>
            <a:ext cx="380844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562720" y="1104840"/>
            <a:ext cx="358128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 fontScale="82000"/>
          </a:bodyPr>
          <a:p>
            <a:pPr marL="197640" indent="-19764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latform gimba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rder of the gimbals determines the order of rot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 INS attitude angles-drift, pitch, rol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ight-handed coordinate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x, y, z) and 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are ground-relative and aircraft relative coordinate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927000"/>
          <a:ext cx="505764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27000"/>
                    <a:ext cx="5057640" cy="500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EBA9-1E56-40A0-8F9D-82E93BE6FAA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00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Dual-Doppler Analysis Techniqu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7769520" cy="45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ventional 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asi-horizontal assum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solve horizontal velocities then integrate continuity equation vertically to obtain vertical veloc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mited to elevation angle less than 45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resolve storm top when storm is close to the rad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2189-F54F-420C-A8C9-2CCD0276D9E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5520" y="264600"/>
            <a:ext cx="8077320" cy="51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3-D Variational Formulation (Gamache 1997):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042920"/>
          <a:ext cx="884412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2920"/>
                    <a:ext cx="8844120" cy="4961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7B26-162E-48E9-8877-633F70AEF9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202600TA" descr=""/>
          <p:cNvPicPr/>
          <p:nvPr/>
        </p:nvPicPr>
        <p:blipFill>
          <a:blip r:embed="rId1"/>
          <a:srcRect l="0" t="0" r="36041" b="0"/>
          <a:stretch/>
        </p:blipFill>
        <p:spPr>
          <a:xfrm>
            <a:off x="4340160" y="1071720"/>
            <a:ext cx="4619520" cy="5032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2" name=""/>
          <p:cNvSpPr/>
          <p:nvPr/>
        </p:nvSpPr>
        <p:spPr>
          <a:xfrm>
            <a:off x="666720" y="162720"/>
            <a:ext cx="77738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480" rIns="115560" tIns="0" bIns="0" anchor="b">
            <a:spAutoFit/>
          </a:bodyPr>
          <a:p>
            <a:pPr marL="57240" indent="-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7680" y="914400"/>
            <a:ext cx="3749400" cy="5183280"/>
            <a:chOff x="517680" y="914400"/>
            <a:chExt cx="3749400" cy="5183280"/>
          </a:xfrm>
        </p:grpSpPr>
        <p:pic>
          <p:nvPicPr>
            <p:cNvPr id="154" name="fig3c" descr=""/>
            <p:cNvPicPr/>
            <p:nvPr/>
          </p:nvPicPr>
          <p:blipFill>
            <a:blip r:embed="rId2"/>
            <a:stretch/>
          </p:blipFill>
          <p:spPr>
            <a:xfrm>
              <a:off x="517680" y="914400"/>
              <a:ext cx="3597120" cy="5143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55" name=""/>
            <p:cNvSpPr/>
            <p:nvPr/>
          </p:nvSpPr>
          <p:spPr>
            <a:xfrm>
              <a:off x="2819520" y="342900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(m/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5821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8458200" y="103500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E60F-009C-41EA-A407-BB614246B4BA}" type="slidenum">
              <a:t>22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6720" y="162360"/>
            <a:ext cx="77738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Quad-Doppler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3352320"/>
            <a:ext cx="3809880" cy="27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241200" indent="-24120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-determined solution at low elevation angle but triple-Doppler solution to deduce vertical velocities at high elevation angles (e.g., top boundar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943" t="15126" r="7119" b="51855"/>
          <a:stretch/>
        </p:blipFill>
        <p:spPr>
          <a:xfrm>
            <a:off x="4572000" y="2666880"/>
            <a:ext cx="4181400" cy="373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61" name=""/>
          <p:cNvSpPr/>
          <p:nvPr/>
        </p:nvSpPr>
        <p:spPr>
          <a:xfrm>
            <a:off x="457200" y="914400"/>
            <a:ext cx="838188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aircraft with dual-Doppler capability flying parallel separated by ~40 km horizontally and ~2 km ver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-Doppler data can be obtained in the region between two aircraft while dual-Doppler data can be obtained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6095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rgensen et al.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883D-3A98-4FC1-A3A9-31F1D6F97F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6720" y="162360"/>
            <a:ext cx="77738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Referenc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687240" y="1143000"/>
            <a:ext cx="7769520" cy="789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040" rIns="32040" tIns="0" bIns="0" anchor="t">
            <a:spAutoFit/>
          </a:bodyPr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, W.-C., P. Dodge, F. D. Marks, and P. H. Hildebrand, 1994: Mapping of airborne Doppler radar data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Atmos. Oceanic Tech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2-57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ud, J., P. H. Hildebrand, and W.-C. Lee, 1995: A procedure to correct airborne Doppler radar data for navigation errors using the echo returned from the earth surface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Atmos. Oceanic Tech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-8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art, B., W.-C. Lee, R. M. Wakimoto, 2001: Procedures to improve the accuracy of the airborne Doppler radar data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Atmos. Oceanic Tech.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2-3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ford, D. N., 1968: On the accuracy of wind measurements using an inertial platform in an aircraft, and an example of measurement of the vertical mesostructure of the atmosphere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Appl. Meteor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5-66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ache, J. F., 1997: Evaluation of a fully three-dimensional variational Doppler analysis technique. Preprint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th Conf. On Radar Meteor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9-13 Sept. 1997, Austin, AMS. 422-4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28320">
              <a:spcBef>
                <a:spcPts val="10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4692-C64D-44B9-AB6E-FDE6AECADD3A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Definitions of INS Attitude Angl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914400"/>
            <a:ext cx="4654440" cy="74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eorological coordinates-positive clockw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is the angle between track and heading (T=H+D), a positive drift angle is defined as the track is more clockwise than the h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tch is the angle that the aircraft longitudinal axis makes with the horizontal plane, nose up is positive p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is the angle that the wings make with the horizontal plane, right wing down is posi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ugh these three sequential rotatio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is transformed 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859200" cy="561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4" name=""/>
          <p:cNvSpPr/>
          <p:nvPr/>
        </p:nvSpPr>
        <p:spPr>
          <a:xfrm>
            <a:off x="7620120" y="627840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ud et al.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80F1-473D-4A43-8371-89DE43A50D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24600" y="1447920"/>
                <a:ext cx="3054240" cy="51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P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638680" y="380880"/>
            <a:ext cx="3505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sformation Matrix (Marion 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96960" y="965160"/>
          <a:ext cx="44179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965160"/>
                    <a:ext cx="4417920" cy="3075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77920" y="5680080"/>
            <a:ext cx="423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ground-relative coordin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Track-relative coordin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Aircraft-relative coordin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49520" y="3965400"/>
            <a:ext cx="251460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: elevation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: tilt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: rotation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: azimuth an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r :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809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et al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A1EF-05EE-4230-978B-67032721AC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Transformation Matrix (continued)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52600" y="1133640"/>
          <a:ext cx="803736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133640"/>
                    <a:ext cx="8037360" cy="45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63B3-67FE-4E2E-83D6-049FD7B7B2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3200"/>
            <a:ext cx="7772400" cy="7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Expression of V</a:t>
            </a:r>
            <a:r>
              <a:rPr b="0" lang="en-US" sz="4200" spc="-1" strike="noStrike" baseline="-25000">
                <a:solidFill>
                  <a:srgbClr val="ffffff"/>
                </a:solidFill>
                <a:latin typeface="Arial Narrow"/>
              </a:rPr>
              <a:t>r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4280" y="1017720"/>
          <a:ext cx="56354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017720"/>
                    <a:ext cx="5635440" cy="367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4822920"/>
          <a:ext cx="6858000" cy="17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22920"/>
                    <a:ext cx="6858000" cy="178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E76C-0DC6-4B8C-9139-3F03A7F35E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000"/>
            <a:ext cx="77724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Problems in Raw Dat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-1186" b="49904"/>
          <a:stretch/>
        </p:blipFill>
        <p:spPr>
          <a:xfrm>
            <a:off x="647640" y="1446120"/>
            <a:ext cx="7848720" cy="34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2" name=""/>
          <p:cNvSpPr/>
          <p:nvPr/>
        </p:nvSpPr>
        <p:spPr>
          <a:xfrm>
            <a:off x="1858680" y="5089680"/>
            <a:ext cx="545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arth surface is til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arth surface is not s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arth surface moves at different sp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3434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ud et al.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C99C-94A6-4164-8478-E56D3EDE91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11200" y="75240"/>
            <a:ext cx="63216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Drift Error of 1 deg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5" name="page7" descr=""/>
          <p:cNvPicPr/>
          <p:nvPr/>
        </p:nvPicPr>
        <p:blipFill>
          <a:blip r:embed="rId1"/>
          <a:srcRect l="2691" t="16051" r="11237" b="2470"/>
          <a:stretch/>
        </p:blipFill>
        <p:spPr>
          <a:xfrm>
            <a:off x="2303640" y="911160"/>
            <a:ext cx="5456160" cy="5626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98120" y="2411280"/>
            <a:ext cx="1369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1560" y="5411880"/>
            <a:ext cx="158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6278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47A2-01A4-4065-B385-64F703F2C0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4000" y="75240"/>
            <a:ext cx="669600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Ground Speed Error of 5 m/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0" name="page9" descr=""/>
          <p:cNvPicPr/>
          <p:nvPr/>
        </p:nvPicPr>
        <p:blipFill>
          <a:blip r:embed="rId1"/>
          <a:srcRect l="1707" t="14514" r="12088" b="1613"/>
          <a:stretch/>
        </p:blipFill>
        <p:spPr>
          <a:xfrm>
            <a:off x="2251080" y="911160"/>
            <a:ext cx="5457960" cy="5619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4920" y="2095560"/>
            <a:ext cx="1369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9680" y="5143680"/>
            <a:ext cx="158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6278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EB46-6E37-440D-B34F-620A82722C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P. Jorgensen</dc:creator>
  <dc:description/>
  <cp:keywords/>
  <dc:language>en-US</dc:language>
  <cp:lastModifiedBy>COMET user</cp:lastModifiedBy>
  <cp:lastPrinted>2005-10-13T16:52:36Z</cp:lastPrinted>
  <dcterms:modified xsi:type="dcterms:W3CDTF">2005-12-01T19:08:00Z</dcterms:modified>
  <cp:revision>56</cp:revision>
  <dc:subject/>
  <dc:title>Observations of Two Intense Oceanic Narrow Cold-Frontal Rainbands</dc:title>
</cp:coreProperties>
</file>