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2A91-7275-479D-A732-75340BBF7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7240" y="990720"/>
            <a:ext cx="7769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7240" y="4055760"/>
            <a:ext cx="7769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07B0-A18A-487E-AB6C-8562805B8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7240" y="99072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840" y="99072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7240" y="405576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840" y="405576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4BAD-CA95-4B46-BCE2-5765EF568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7240" y="990720"/>
            <a:ext cx="250164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4520" y="990720"/>
            <a:ext cx="250164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990720"/>
            <a:ext cx="250164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7240" y="4055760"/>
            <a:ext cx="250164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4520" y="4055760"/>
            <a:ext cx="250164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55760"/>
            <a:ext cx="250164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B759-013A-4E74-BED8-C5EB572FE3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7240" y="990720"/>
            <a:ext cx="77695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6D64-CD93-4C71-B4B4-DAC3DBA6DD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7240" y="990720"/>
            <a:ext cx="7769520" cy="5867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36B9-9852-44E7-89A7-079D36135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7240" y="990720"/>
            <a:ext cx="3791520" cy="5867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840" y="990720"/>
            <a:ext cx="3791520" cy="5867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2035-0D65-4E93-8580-316AB2A53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0A94-01CD-4501-A3AF-721F75204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-1080"/>
            <a:ext cx="7763040" cy="29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02A8-7800-4D8F-9455-CC95C936C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99072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990720"/>
            <a:ext cx="3791520" cy="5867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7240" y="405576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199A-BC3B-42C8-BADE-AAF5B0AFF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990720"/>
            <a:ext cx="3791520" cy="58672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99072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840" y="405576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A473-93FB-4E99-AB33-6F47D514F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63040" cy="6404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99072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840" y="990720"/>
            <a:ext cx="3791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7240" y="4055760"/>
            <a:ext cx="7769520" cy="27986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4178-0EBD-4BDE-8BC0-7A843A1D1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6304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7240" y="990720"/>
            <a:ext cx="7769520" cy="586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32040" rIns="32040" tIns="0" bIns="0" anchor="t">
            <a:normAutofit/>
          </a:bodyPr>
          <a:p>
            <a:pPr marL="334800" indent="-32832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76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  <a:p>
            <a:pPr lvl="1" marL="743040" indent="-279360">
              <a:spcBef>
                <a:spcPts val="774"/>
              </a:spcBef>
              <a:buClr>
                <a:srgbClr val="000000"/>
              </a:buClr>
              <a:buFont typeface="Lucida Grande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76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  <a:p>
            <a:pPr lvl="2" marL="1144440" indent="-223560">
              <a:spcBef>
                <a:spcPts val="774"/>
              </a:spcBef>
              <a:buClr>
                <a:srgbClr val="000000"/>
              </a:buClr>
              <a:buFont typeface="Lucida Grande"/>
              <a:buChar char="»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76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  <a:p>
            <a:pPr lvl="3" marL="1600200" indent="-222120">
              <a:spcBef>
                <a:spcPts val="774"/>
              </a:spcBef>
              <a:buClr>
                <a:srgbClr val="000000"/>
              </a:buClr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76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  <a:p>
            <a:pPr lvl="4" marL="2068560" indent="-231840">
              <a:spcBef>
                <a:spcPts val="774"/>
              </a:spcBef>
              <a:buClr>
                <a:srgbClr val="000000"/>
              </a:buClr>
              <a:buFont typeface="Lucida Grande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76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  <a:p>
            <a:pPr lvl="5" marL="2068560" indent="-231840">
              <a:spcBef>
                <a:spcPts val="774"/>
              </a:spcBef>
              <a:buClr>
                <a:srgbClr val="000000"/>
              </a:buClr>
              <a:buFont typeface="Lucida Grande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76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  <a:p>
            <a:pPr lvl="6" marL="2068560" indent="-231840">
              <a:spcBef>
                <a:spcPts val="774"/>
              </a:spcBef>
              <a:buClr>
                <a:srgbClr val="000000"/>
              </a:buClr>
              <a:buFont typeface="Lucida Grande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76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527040"/>
            <a:ext cx="0" cy="53402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71440" y="6686640"/>
            <a:ext cx="6905880" cy="11160"/>
          </a:xfrm>
          <a:custGeom>
            <a:avLst/>
            <a:gdLst/>
            <a:ahLst/>
            <a:rect l="l" t="t" r="r" b="b"/>
            <a:pathLst>
              <a:path w="4350" h="7">
                <a:moveTo>
                  <a:pt x="0" y="7"/>
                </a:moveTo>
                <a:lnTo>
                  <a:pt x="4350" y="0"/>
                </a:lnTo>
              </a:path>
            </a:pathLst>
          </a:custGeom>
          <a:noFill/>
          <a:ln w="76320">
            <a:solidFill>
              <a:srgbClr val="00cc99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840" y="830160"/>
            <a:ext cx="85359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6600" y="-44280"/>
            <a:ext cx="223920" cy="2491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9735B8BC-9AA2-4832-8C15-8B90A2E8F43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325000" y="6040440"/>
            <a:ext cx="819000" cy="8175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0" y="6019920"/>
            <a:ext cx="83520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6304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Educational Symposium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3240" y="2625480"/>
            <a:ext cx="7877520" cy="45136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txBody>
          <a:bodyPr lIns="32040" rIns="32040" tIns="0" bIns="0" anchor="t">
            <a:normAutofit/>
          </a:bodyPr>
          <a:p>
            <a:pPr marL="334800" indent="-32832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760"/>
                </a:solidFill>
                <a:latin typeface="Times New Roman"/>
              </a:rPr>
              <a:t>David Jorgensen (NOAA/NSSL): Introduction to platforms &amp; systems (10 min)</a:t>
            </a:r>
            <a:endParaRPr b="0" lang="en-US" sz="2200" spc="-1" strike="noStrike">
              <a:solidFill>
                <a:srgbClr val="fff760"/>
              </a:solidFill>
              <a:latin typeface="Times New Roman"/>
            </a:endParaRPr>
          </a:p>
          <a:p>
            <a:pPr marL="334800" indent="-32832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760"/>
                </a:solidFill>
                <a:latin typeface="Times New Roman"/>
              </a:rPr>
              <a:t>Wen-Chau Lee (NCAR): Derivation of winds and uncertainties (20 min)</a:t>
            </a:r>
            <a:endParaRPr b="0" lang="en-US" sz="2200" spc="-1" strike="noStrike">
              <a:solidFill>
                <a:srgbClr val="fff760"/>
              </a:solidFill>
              <a:latin typeface="Times New Roman"/>
            </a:endParaRPr>
          </a:p>
          <a:p>
            <a:pPr marL="334800" indent="-32832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200" spc="-1" strike="noStrike">
                <a:solidFill>
                  <a:srgbClr val="fff760"/>
                </a:solidFill>
                <a:latin typeface="Times New Roman"/>
              </a:rPr>
              <a:t>Questions &amp; short break</a:t>
            </a:r>
            <a:endParaRPr b="0" lang="en-US" sz="2200" spc="-1" strike="noStrike">
              <a:solidFill>
                <a:srgbClr val="fff760"/>
              </a:solidFill>
              <a:latin typeface="Times New Roman"/>
            </a:endParaRPr>
          </a:p>
          <a:p>
            <a:pPr marL="334800" indent="-32832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760"/>
                </a:solidFill>
                <a:latin typeface="Times New Roman"/>
              </a:rPr>
              <a:t>Brad Smull (UWash): Orographic applications (25 min)</a:t>
            </a:r>
            <a:endParaRPr b="0" lang="en-US" sz="2200" spc="-1" strike="noStrike">
              <a:solidFill>
                <a:srgbClr val="fff760"/>
              </a:solidFill>
              <a:latin typeface="Times New Roman"/>
            </a:endParaRPr>
          </a:p>
          <a:p>
            <a:pPr marL="334800" indent="-32832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760"/>
                </a:solidFill>
                <a:latin typeface="Times New Roman"/>
              </a:rPr>
              <a:t>Roger Wakimoto (NCAR): Convective storms &amp; frontal band research (25 min)</a:t>
            </a:r>
            <a:endParaRPr b="0" lang="en-US" sz="2200" spc="-1" strike="noStrike">
              <a:solidFill>
                <a:srgbClr val="fff760"/>
              </a:solidFill>
              <a:latin typeface="Times New Roman"/>
            </a:endParaRPr>
          </a:p>
          <a:p>
            <a:pPr marL="334800" indent="-32832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760"/>
                </a:solidFill>
                <a:latin typeface="Times New Roman"/>
              </a:rPr>
              <a:t>David Jorgensen (NOAA/NSSL): Tropical &amp; extratropical mesoscale system applications (25 min)</a:t>
            </a:r>
            <a:endParaRPr b="0" lang="en-US" sz="2200" spc="-1" strike="noStrike">
              <a:solidFill>
                <a:srgbClr val="fff76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7360" y="1285920"/>
            <a:ext cx="8369280" cy="82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500" spc="-1" strike="noStrike">
                <a:solidFill>
                  <a:srgbClr val="53ffcd"/>
                </a:solidFill>
                <a:latin typeface="Times New Roman"/>
                <a:ea typeface="Times New Roman"/>
              </a:rPr>
              <a:t>Airborne Doppler Radar Analysis of Tropical and Extratropical Mesoscale Syste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09600" y="2143080"/>
            <a:ext cx="1303200" cy="39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0040" y="857160"/>
            <a:ext cx="16383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sion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6747-37BA-4285-8ADA-997880C63BF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Basic References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844560" y="5784840"/>
            <a:ext cx="74548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marL="244440" indent="-244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eymsfield, G. M., S. W. Bidwell, I. J. Caylor, S. Ameen, S. Nicholson, W. Boncyk, L. Miller, D. Vandemark, P. E. Racette and L. R. Dod, 1996: The EDOP radar system on the high-altitude NASA ER-2 aircraft.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J. Atmos. Ocean. Tech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795–809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8960" y="5303880"/>
            <a:ext cx="718020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OP </a:t>
            </a:r>
            <a:r>
              <a:rPr b="0" lang="en-US" sz="1700" spc="-1" strike="noStrike">
                <a:solidFill>
                  <a:srgbClr val="53ffcd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53ffcd"/>
                </a:solidFill>
                <a:latin typeface="Times New Roman"/>
              </a:rPr>
              <a:t>http://ghrc.nsstc.nasa.gov/camex3/instruments/edop.htm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8960" y="1179360"/>
            <a:ext cx="73407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AA P-3 </a:t>
            </a:r>
            <a:r>
              <a:rPr b="0" lang="en-US" sz="1700" spc="-1" strike="noStrike">
                <a:solidFill>
                  <a:srgbClr val="53ffcd"/>
                </a:solidFill>
                <a:latin typeface="Times New Roman"/>
                <a:ea typeface="Times New Roman"/>
              </a:rPr>
              <a:t>(http://www.ofps.ucar.edu/data/vortex_95/html/wp3.htm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97560" y="4186080"/>
            <a:ext cx="58597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 Wyoming </a:t>
            </a:r>
            <a:r>
              <a:rPr b="0" lang="en-US" sz="1700" spc="-1" strike="noStrike">
                <a:solidFill>
                  <a:srgbClr val="53ffcd"/>
                </a:solidFill>
                <a:latin typeface="Times New Roman"/>
                <a:ea typeface="Times New Roman"/>
              </a:rPr>
              <a:t>(http://www-das.uwyo.edu/wcr/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4560" y="4660920"/>
            <a:ext cx="729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marL="277920" indent="-2779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Vali, G., R. D. Kelly, A. Pazmany, and R. E. McIntosh, 1995: Airborne radar and in-situ observations of a shallow stratus with drizzle.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Atmos. Res.,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38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361-380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4560" y="2249640"/>
            <a:ext cx="74548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marL="244440" indent="-244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orgensen, D. P., T. R. Shepherd, and A. Goldstein, 2000: A multiple pulse repetition frequency scheme for extending the unambiguous Doppler velocity of the NOAA P-3 airborne Doppler radar.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J. Atmos. Ocean. Tech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585-594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4560" y="1660680"/>
            <a:ext cx="712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marL="244440" indent="-24444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orgensen, D. P., T. Matejka, and J. D. DuGranrut, 1996: Multi-beam techniques for deriving wind fields from airborne Doppler radars.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J. Meteor. and Atmos. Physics,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9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83-10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8960" y="3054240"/>
            <a:ext cx="73407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AR ELDORA </a:t>
            </a:r>
            <a:r>
              <a:rPr b="0" lang="en-US" sz="1700" spc="-1" strike="noStrike">
                <a:solidFill>
                  <a:srgbClr val="53ffcd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53ffcd"/>
                </a:solidFill>
                <a:latin typeface="Times New Roman"/>
              </a:rPr>
              <a:t>http://www.atd.ucar.edu/rsf/eldora/eldora.html</a:t>
            </a:r>
            <a:r>
              <a:rPr b="0" lang="en-US" sz="1700" spc="-1" strike="noStrike">
                <a:solidFill>
                  <a:srgbClr val="53ffcd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7160" y="3537000"/>
            <a:ext cx="64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marL="201600" indent="-201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osart, B. L., W.-C. Lee and R. M. Wakimoto, 2002: Procedures to improve the accuracy of airborne Doppler radar data.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J. Atmos. Ocean. Tech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322–339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BD6D-6D39-4C24-8A64-3D15F2044EC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515" t="16084" r="10674" b="39829"/>
          <a:stretch/>
        </p:blipFill>
        <p:spPr>
          <a:xfrm>
            <a:off x="6429240" y="911160"/>
            <a:ext cx="2714760" cy="1150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1" name="" descr=""/>
          <p:cNvPicPr/>
          <p:nvPr/>
        </p:nvPicPr>
        <p:blipFill>
          <a:blip r:embed="rId2"/>
          <a:srcRect l="0" t="0" r="0" b="53988"/>
          <a:stretch/>
        </p:blipFill>
        <p:spPr>
          <a:xfrm>
            <a:off x="6437160" y="3857760"/>
            <a:ext cx="2706840" cy="1017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5600"/>
            <a:ext cx="914400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Most Commonly Used Platforms &amp; Systems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69160" cy="58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32040" rIns="32040" tIns="0" bIns="0" anchor="t">
            <a:normAutofit/>
          </a:bodyPr>
          <a:p>
            <a:pPr marL="334800" indent="-328320">
              <a:lnSpc>
                <a:spcPct val="90000"/>
              </a:lnSpc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760"/>
                </a:solidFill>
                <a:latin typeface="Times New Roman"/>
              </a:rPr>
              <a:t>NOAA P-3s</a:t>
            </a: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  <a:p>
            <a:pPr lvl="1" marL="74304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fff760"/>
                </a:solidFill>
                <a:latin typeface="Times New Roman"/>
              </a:rPr>
              <a:t>X-band, vertically scanning</a:t>
            </a:r>
            <a:endParaRPr b="0" lang="en-US" sz="2700" spc="-1" strike="noStrike">
              <a:solidFill>
                <a:srgbClr val="fff76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700" spc="-1" strike="noStrike">
              <a:solidFill>
                <a:srgbClr val="fff760"/>
              </a:solidFill>
              <a:latin typeface="Times New Roman"/>
            </a:endParaRPr>
          </a:p>
          <a:p>
            <a:pPr marL="334800" indent="-328320">
              <a:lnSpc>
                <a:spcPct val="90000"/>
              </a:lnSpc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760"/>
                </a:solidFill>
                <a:latin typeface="Times New Roman"/>
              </a:rPr>
              <a:t>NCAR ELDORA (on NRL P-3)</a:t>
            </a: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  <a:p>
            <a:pPr lvl="1" marL="74304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fff760"/>
                </a:solidFill>
                <a:latin typeface="Times New Roman"/>
              </a:rPr>
              <a:t>X-band, rapid vertical scanning</a:t>
            </a:r>
            <a:endParaRPr b="0" lang="en-US" sz="2700" spc="-1" strike="noStrike">
              <a:solidFill>
                <a:srgbClr val="fff76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700" spc="-1" strike="noStrike">
              <a:solidFill>
                <a:srgbClr val="fff760"/>
              </a:solidFill>
              <a:latin typeface="Times New Roman"/>
            </a:endParaRPr>
          </a:p>
          <a:p>
            <a:pPr marL="334800" indent="-328320">
              <a:lnSpc>
                <a:spcPct val="90000"/>
              </a:lnSpc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760"/>
                </a:solidFill>
                <a:latin typeface="Times New Roman"/>
              </a:rPr>
              <a:t>U. Wyoming</a:t>
            </a: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  <a:p>
            <a:pPr lvl="1" marL="74304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fff760"/>
                </a:solidFill>
                <a:latin typeface="Times New Roman"/>
              </a:rPr>
              <a:t>65 GHz (3-mm W-band, cloud radar), </a:t>
            </a:r>
            <a:endParaRPr b="0" lang="en-US" sz="2700" spc="-1" strike="noStrike">
              <a:solidFill>
                <a:srgbClr val="fff76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fff760"/>
                </a:solidFill>
                <a:latin typeface="Times New Roman"/>
              </a:rPr>
              <a:t>two profiling modes</a:t>
            </a:r>
            <a:endParaRPr b="0" lang="en-US" sz="2700" spc="-1" strike="noStrike">
              <a:solidFill>
                <a:srgbClr val="fff76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fff760"/>
              </a:solidFill>
              <a:latin typeface="Times New Roman"/>
            </a:endParaRPr>
          </a:p>
          <a:p>
            <a:pPr marL="334800" indent="-328320">
              <a:lnSpc>
                <a:spcPct val="90000"/>
              </a:lnSpc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760"/>
                </a:solidFill>
                <a:latin typeface="Times New Roman"/>
              </a:rPr>
              <a:t>ER-2 (EDOP)</a:t>
            </a: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  <a:p>
            <a:pPr lvl="1" marL="74304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fff760"/>
                </a:solidFill>
                <a:latin typeface="Times New Roman"/>
              </a:rPr>
              <a:t>X-band, vertical profiling</a:t>
            </a:r>
            <a:endParaRPr b="0" lang="en-US" sz="2700" spc="-1" strike="noStrike">
              <a:solidFill>
                <a:srgbClr val="fff76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rcRect l="7212" t="26447" r="9421" b="30846"/>
          <a:stretch/>
        </p:blipFill>
        <p:spPr>
          <a:xfrm>
            <a:off x="6375240" y="2679840"/>
            <a:ext cx="2768760" cy="84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248520" y="5197320"/>
            <a:ext cx="1828800" cy="1148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6" name=""/>
          <p:cNvSpPr/>
          <p:nvPr/>
        </p:nvSpPr>
        <p:spPr>
          <a:xfrm>
            <a:off x="8610480" y="914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A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10480" y="26668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763120" y="45720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0120" y="61563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8D5C-743C-4662-9AD4-20EA42AF1B9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6304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Scanning Technique (P-3’s)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8200" y="1050840"/>
            <a:ext cx="5861160" cy="2378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04960" y="3483000"/>
            <a:ext cx="5734080" cy="3143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215040" y="1285920"/>
            <a:ext cx="2732040" cy="183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4" name=""/>
          <p:cNvSpPr/>
          <p:nvPr/>
        </p:nvSpPr>
        <p:spPr>
          <a:xfrm>
            <a:off x="6172200" y="2895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A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32A0-DAD7-43B3-913A-FB54B8E151F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Limitations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7240" y="990360"/>
            <a:ext cx="7769520" cy="549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32040" rIns="32040" tIns="0" bIns="0" anchor="t">
            <a:normAutofit/>
          </a:bodyPr>
          <a:p>
            <a:pPr marL="334800" indent="-328320">
              <a:lnSpc>
                <a:spcPct val="100000"/>
              </a:lnSpc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fff760"/>
                </a:solidFill>
                <a:latin typeface="Arial"/>
              </a:rPr>
              <a:t>Need relatively straight flight legs. </a:t>
            </a:r>
            <a:endParaRPr b="0" lang="en-US" sz="2400" spc="-1" strike="noStrike">
              <a:solidFill>
                <a:srgbClr val="fff760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fff760"/>
                </a:solidFill>
                <a:latin typeface="Arial"/>
              </a:rPr>
              <a:t>For fixed antenna dual-Doppler operations (WCR, EDOP), the aircraft should be level, otherwise there will be poor spatial correspondence between the two antennas</a:t>
            </a:r>
            <a:endParaRPr b="0" lang="en-US" sz="2400" spc="-1" strike="noStrike">
              <a:solidFill>
                <a:srgbClr val="fff760"/>
              </a:solidFill>
              <a:latin typeface="Times New Roman"/>
            </a:endParaRPr>
          </a:p>
          <a:p>
            <a:pPr marL="334800" indent="0">
              <a:spcBef>
                <a:spcPts val="774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fff760"/>
              </a:solidFill>
              <a:latin typeface="Times New Roman"/>
            </a:endParaRPr>
          </a:p>
          <a:p>
            <a:pPr marL="334800" indent="0">
              <a:spcBef>
                <a:spcPts val="774"/>
              </a:spcBef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  <a:p>
            <a:pPr marL="334800" indent="0">
              <a:spcBef>
                <a:spcPts val="774"/>
              </a:spcBef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  <a:p>
            <a:pPr marL="334800" indent="0">
              <a:spcBef>
                <a:spcPts val="774"/>
              </a:spcBef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  <a:p>
            <a:pPr marL="334800" indent="0">
              <a:spcBef>
                <a:spcPts val="774"/>
              </a:spcBef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fff76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fff76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760"/>
                </a:solidFill>
                <a:latin typeface="Arial"/>
              </a:rPr>
              <a:t> accuracy to ~1.5 m/s due to added Doppler spectrum spread due to aircraft motion</a:t>
            </a:r>
            <a:endParaRPr b="0" lang="en-US" sz="2400" spc="-1" strike="noStrike">
              <a:solidFill>
                <a:srgbClr val="fff76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90920" y="2627280"/>
            <a:ext cx="3740040" cy="3011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8" name=""/>
          <p:cNvSpPr/>
          <p:nvPr/>
        </p:nvSpPr>
        <p:spPr>
          <a:xfrm>
            <a:off x="5334120" y="54100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Jorg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3311-E441-4065-97B7-912B928A147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Limitations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990360"/>
            <a:ext cx="7769520" cy="329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32040" rIns="32040" tIns="0" bIns="0" anchor="t">
            <a:normAutofit/>
          </a:bodyPr>
          <a:p>
            <a:pPr marL="334800" indent="-328320">
              <a:spcBef>
                <a:spcPts val="774"/>
              </a:spcBef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760"/>
                </a:solidFill>
                <a:latin typeface="Times New Roman"/>
              </a:rPr>
              <a:t>Hydrometeor fallspeed contamination</a:t>
            </a:r>
            <a:endParaRPr b="0" lang="en-US" sz="3000" spc="-1" strike="noStrike">
              <a:solidFill>
                <a:srgbClr val="fff760"/>
              </a:solidFill>
              <a:latin typeface="Times New Roman"/>
            </a:endParaRPr>
          </a:p>
          <a:p>
            <a:pPr lvl="1" marL="743040" indent="-2793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fff760"/>
                </a:solidFill>
                <a:latin typeface="Times New Roman"/>
              </a:rPr>
              <a:t>Limit elevations to ±45° from horizontal</a:t>
            </a:r>
            <a:endParaRPr b="0" lang="en-US" sz="2700" spc="-1" strike="noStrike">
              <a:solidFill>
                <a:srgbClr val="fff760"/>
              </a:solidFill>
              <a:latin typeface="Times New Roman"/>
            </a:endParaRPr>
          </a:p>
          <a:p>
            <a:pPr lvl="1" marL="743040" indent="-2793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fff760"/>
                </a:solidFill>
                <a:latin typeface="Times New Roman"/>
              </a:rPr>
              <a:t>Empirical V</a:t>
            </a:r>
            <a:r>
              <a:rPr b="0" lang="en-US" sz="2700" spc="-1" strike="noStrike" baseline="-25000">
                <a:solidFill>
                  <a:srgbClr val="fff76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fff760"/>
                </a:solidFill>
                <a:latin typeface="Times New Roman"/>
              </a:rPr>
              <a:t>-Z relations - mixed phase regions?</a:t>
            </a:r>
            <a:endParaRPr b="0" lang="en-US" sz="2700" spc="-1" strike="noStrike">
              <a:solidFill>
                <a:srgbClr val="fff760"/>
              </a:solidFill>
              <a:latin typeface="Times New Roman"/>
            </a:endParaRPr>
          </a:p>
          <a:p>
            <a:pPr lvl="1" marL="743040" indent="-2793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fff760"/>
                </a:solidFill>
                <a:latin typeface="Times New Roman"/>
              </a:rPr>
              <a:t>Fly low and not too close</a:t>
            </a:r>
            <a:endParaRPr b="0" lang="en-US" sz="2700" spc="-1" strike="noStrike">
              <a:solidFill>
                <a:srgbClr val="fff76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2960" y="2840040"/>
            <a:ext cx="7629480" cy="385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0" y="57913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Jorg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8A29-3B7F-4066-9BF2-CC0D165185D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Operations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68920" y="2357280"/>
            <a:ext cx="4113000" cy="308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2200" y="2357280"/>
            <a:ext cx="4113360" cy="308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6" name=""/>
          <p:cNvSpPr/>
          <p:nvPr/>
        </p:nvSpPr>
        <p:spPr>
          <a:xfrm>
            <a:off x="1012680" y="1822320"/>
            <a:ext cx="27324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we do now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57960" y="1822320"/>
            <a:ext cx="27334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efing the cre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524196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. Murph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524196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Jorg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4DA5-9E70-4B15-994F-2AB876A2FF8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Operations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745160" y="2197080"/>
            <a:ext cx="4113000" cy="308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8640" y="2197080"/>
            <a:ext cx="4113360" cy="308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3" name=""/>
          <p:cNvSpPr/>
          <p:nvPr/>
        </p:nvSpPr>
        <p:spPr>
          <a:xfrm>
            <a:off x="1768320" y="1874880"/>
            <a:ext cx="15544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L P-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54840" y="1874880"/>
            <a:ext cx="15541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AA P-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98760" y="1071720"/>
            <a:ext cx="59464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ing the pilots where to go 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50896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. Murph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50896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Jorg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BEF0-BB07-49D9-BAB5-CA850595A08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Operations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2200" y="2251080"/>
            <a:ext cx="4113360" cy="308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14920" y="2251080"/>
            <a:ext cx="4113000" cy="308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1" name=""/>
          <p:cNvSpPr/>
          <p:nvPr/>
        </p:nvSpPr>
        <p:spPr>
          <a:xfrm>
            <a:off x="1598760" y="1393920"/>
            <a:ext cx="59464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 back and enjoy the ride 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51055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Smu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48720" y="508968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Jorg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1022-9888-442F-A41B-646C5DCF959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90480" y="75240"/>
            <a:ext cx="7763040" cy="6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6480" rIns="115560" tIns="0" bIns="0" anchor="b">
            <a:noAutofit/>
          </a:bodyPr>
          <a:p>
            <a:pPr marL="57240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Operations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30240" y="2251080"/>
            <a:ext cx="5483520" cy="4113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6" name=""/>
          <p:cNvSpPr/>
          <p:nvPr/>
        </p:nvSpPr>
        <p:spPr>
          <a:xfrm>
            <a:off x="1138320" y="1231920"/>
            <a:ext cx="68673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competitors from stealing your ideas (and your tools) 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615636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Jorg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6B1A-B377-44C3-B1CB-7F22FC240B4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P. Jorgensen</dc:creator>
  <dc:description/>
  <cp:keywords/>
  <dc:language>en-US</dc:language>
  <cp:lastModifiedBy>COMET user</cp:lastModifiedBy>
  <cp:lastPrinted>2005-10-13T16:52:36Z</cp:lastPrinted>
  <dcterms:modified xsi:type="dcterms:W3CDTF">2005-12-09T15:45:54Z</dcterms:modified>
  <cp:revision>58</cp:revision>
  <dc:subject/>
  <dc:title>Observations of Two Intense Oceanic Narrow Cold-Frontal Rainbands</dc:title>
</cp:coreProperties>
</file>