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9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11.png" ContentType="image/png"/>
  <Override PartName="/ppt/media/image6.wmf" ContentType="image/x-wmf"/>
  <Override PartName="/ppt/media/image15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FD640-4021-4857-9B74-6243B5C243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BA25-ABEF-4CB7-9D81-B6E26D018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8D67-1FF0-41E6-8CE1-07C9649D3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557B-CA31-4054-9861-BF291F94C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F6F3-EE60-4335-8C35-308292A38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3828-AB05-4E07-A18B-700FD4129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B991-04A5-43F9-AA6B-AA32D7111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8ABB-3CBA-40D9-9AAB-6A5BDA261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5DD2-2646-4F53-B4AB-212A5E6AA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FFCB-5242-48C4-9E80-25E3F373C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0ADA-DF51-4CE0-9938-EFA1E2D3B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6A04-9865-4C75-A5D3-D8F251A08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3239-78AD-4EA9-B6F8-136901ECD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B2B4A-37FD-4320-916E-5B3CBB0ADC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AIN RATE ESTIMATION FROM DUAL POLARISATION RADAR OBERVATIONS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ony Illingwor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versity of Reading, UK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32000" y="3428640"/>
            <a:ext cx="64008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23 October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Albuquerque, New Mex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AMS Education Foru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409400" y="5589720"/>
            <a:ext cx="644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acknowledgements to Robert Thompson of U of 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24C3-B152-46F4-B527-8AF60432C84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BOLTON DATA: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D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D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4800600" cy="58197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611760" y="1184400"/>
            <a:ext cx="229284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 &gt;40dB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heavy 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2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heavy 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phase shif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vy  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B018-D1D0-49F3-BCFC-178B0AE5232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4000" y="259920"/>
            <a:ext cx="88203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O-POLAR CORRELATION COEFFICIENT: </a:t>
            </a:r>
            <a:r>
              <a:rPr b="1" lang="en-GB" sz="2800" spc="-1" strike="noStrike">
                <a:solidFill>
                  <a:srgbClr val="ff0000"/>
                </a:solidFill>
                <a:latin typeface="Symbol"/>
                <a:ea typeface="Symbol"/>
              </a:rPr>
              <a:t>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Arial"/>
              </a:rPr>
              <a:t>hv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orrelation between simultaneously-measured backscattered  amplitudes A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A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V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ver N successive pulses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all the particles are the same shape, then ratio A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/ A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constant and </a:t>
            </a:r>
            <a:r>
              <a:rPr b="0" lang="en-GB" sz="2000" spc="-1" strike="noStrike">
                <a:solidFill>
                  <a:srgbClr val="ff0000"/>
                </a:solidFill>
                <a:latin typeface="Symbol"/>
                <a:ea typeface="Symbol"/>
              </a:rPr>
              <a:t></a:t>
            </a:r>
            <a:r>
              <a:rPr b="0" lang="en-GB" sz="2000" spc="-1" strike="noStrike" baseline="-25000">
                <a:solidFill>
                  <a:srgbClr val="ff0000"/>
                </a:solidFill>
                <a:latin typeface="Arial"/>
              </a:rPr>
              <a:t>hv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 =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2400"/>
            </a:br>
            <a:r>
              <a:rPr b="1" lang="en-GB" sz="2400" spc="-1" strike="noStrike">
                <a:solidFill>
                  <a:srgbClr val="ff0000"/>
                </a:solidFill>
                <a:latin typeface="Symbol"/>
                <a:ea typeface="Symbol"/>
              </a:rPr>
              <a:t></a:t>
            </a:r>
            <a:r>
              <a:rPr b="1" lang="en-GB" sz="2400" spc="-1" strike="noStrike" baseline="-25000">
                <a:solidFill>
                  <a:srgbClr val="ff0000"/>
                </a:solidFill>
                <a:latin typeface="Arial"/>
              </a:rPr>
              <a:t>hv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&lt; 1 tells you that there is a mixture of shapes present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.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04920" y="5589360"/>
            <a:ext cx="853416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arget: two spheres and two oblate spheroids.  Add up the individual scattering amplitudes a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a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o give resultant amplitudes A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A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124000" y="2421000"/>
            <a:ext cx="4127400" cy="33019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0" y="320040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As particles reshuffle relative ph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B04C-DEC7-4ECE-8607-D732DDCDF3F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pheres ‘1’ &amp; ‘2’ backscatter amplitudes  a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 a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blates ‘3’ &amp; ’4’    a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= 2 a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47163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As the particles reshuffle the relative phases change and the resultant amplitudes A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, A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do not quite fluctuate together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038480" y="1676520"/>
            <a:ext cx="4524480" cy="4771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276720" y="5791320"/>
            <a:ext cx="121896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124080" y="4038480"/>
            <a:ext cx="13716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2924280"/>
            <a:ext cx="2789280" cy="20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HV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&lt;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=0    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&gt; 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&gt; Z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4000" y="4941720"/>
            <a:ext cx="304164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er time    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=t             Z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Z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BC48-B027-40C6-97B5-77AE01CA5CCF}" type="slidenum">
              <a:t>1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DR: LINEAR DEPOLARISATION RAT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00000" y="5445000"/>
            <a:ext cx="7344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DR in the rain &lt;30dB:  low (&lt;-25dB) in dry ic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est values (&gt;-15dB) in the bright band – use to identif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 wet melting ice which rocks and rolls as it fal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79280" y="1844640"/>
            <a:ext cx="7848720" cy="34434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95280" y="981000"/>
            <a:ext cx="77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mit Horizontal:  Receive Vertical – cross polar retur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DR = 10 log (cross-polar/co-polar).   Difficult for 45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ransmiss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80360" y="2728800"/>
            <a:ext cx="190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O cross po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67280" y="3736800"/>
            <a:ext cx="235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ross polar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0C8F-971B-4CC7-A7D0-FB695CC79B80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wo spheres ‘1’ &amp; ‘2’ backscatter amplitudes  a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= a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wo oblates ‘3’ &amp; ’4’ a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= 2 a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v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GB" sz="2000" spc="-1" strike="noStrike">
                <a:solidFill>
                  <a:srgbClr val="ff0000"/>
                </a:solidFill>
                <a:latin typeface="Symbol"/>
                <a:ea typeface="Symbol"/>
              </a:rPr>
              <a:t></a:t>
            </a:r>
            <a:r>
              <a:rPr b="0" lang="en-GB" sz="2000" spc="-1" strike="noStrike" baseline="-25000">
                <a:solidFill>
                  <a:srgbClr val="ff0000"/>
                </a:solidFill>
                <a:latin typeface="Arial"/>
              </a:rPr>
              <a:t>HV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 &lt; 1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40384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marL="198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a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Arial"/>
              </a:rPr>
              <a:t>h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/a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Arial"/>
              </a:rPr>
              <a:t>v 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not constant so as particles reshuff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     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Z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Arial"/>
              </a:rPr>
              <a:t>DR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 and  </a:t>
            </a:r>
            <a:r>
              <a:rPr b="0" lang="en-GB" sz="2400" spc="-1" strike="noStrike">
                <a:solidFill>
                  <a:srgbClr val="006600"/>
                </a:solidFill>
                <a:latin typeface="Symbol"/>
                <a:ea typeface="Symbol"/>
              </a:rPr>
              <a:t>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Arial"/>
              </a:rPr>
              <a:t>dP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 change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35480" y="1989000"/>
            <a:ext cx="4227480" cy="4459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276720" y="5791320"/>
            <a:ext cx="121896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24080" y="4038480"/>
            <a:ext cx="13716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8360" y="3716280"/>
            <a:ext cx="3294000" cy="138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R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0dB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1280" y="5230800"/>
            <a:ext cx="2879640" cy="188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 time t=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V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0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89000"/>
            <a:ext cx="9144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. Accuracy of the radar estimates of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Arial"/>
              </a:rPr>
              <a:t>DR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&amp;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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Arial"/>
              </a:rPr>
              <a:t>D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5367-2F15-4CF9-B059-BBF087AA47E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ccuracy of the radar estimates of Z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DR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&amp;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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D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HV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= 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then no uncertainty - need JUST ONE RADAR PULS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reality,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HV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&lt; 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 and V pulse volumes mismatch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1%  mismatch,  max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HV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= 0.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ture of drop shapes in rain, so max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HV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0.98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certainty is random, reduce with many independent samp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9000" y="3429000"/>
            <a:ext cx="26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45680" y="3429000"/>
            <a:ext cx="7693920" cy="31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XRAD.   Typical spec (Ryzhkov et al, 200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e degree beam – scan 3rpm:   prf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kHz – fold velocity 25m/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e degree dwell  - 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48 puls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    Pulse length = 267m g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umber of independent samples increases as the rat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huffling increases, i.e as Doppler width of the target increa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n calculate noise in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1" lang="en-GB" sz="2400" spc="-1" strike="noStrike" baseline="-25000">
                <a:solidFill>
                  <a:srgbClr val="ff0000"/>
                </a:solidFill>
                <a:latin typeface="Arial"/>
              </a:rPr>
              <a:t>DR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&amp; </a:t>
            </a:r>
            <a:r>
              <a:rPr b="1" lang="en-GB" sz="2400" spc="-1" strike="noStrike">
                <a:solidFill>
                  <a:srgbClr val="ff0000"/>
                </a:solidFill>
                <a:latin typeface="Symbol"/>
                <a:ea typeface="Symbol"/>
              </a:rPr>
              <a:t></a:t>
            </a:r>
            <a:r>
              <a:rPr b="1" lang="en-GB" sz="2400" spc="-1" strike="noStrike" baseline="-25000">
                <a:solidFill>
                  <a:srgbClr val="ff0000"/>
                </a:solidFill>
                <a:latin typeface="Arial"/>
              </a:rPr>
              <a:t>DP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B&amp;C,  Eq. 6.142 and 6.14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E0D5-8E8E-46EA-9927-40C85B33E74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84360" y="1773360"/>
            <a:ext cx="4657680" cy="38005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tandard deviation of Z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D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.99, 0.98, 0.97 as a function of Doppler width.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=48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8720" y="4869000"/>
            <a:ext cx="990360" cy="0"/>
          </a:xfrm>
          <a:prstGeom prst="line">
            <a:avLst/>
          </a:prstGeom>
          <a:ln w="7632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576120" y="4508640"/>
            <a:ext cx="1969920" cy="92628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cc00"/>
                </a:solidFill>
                <a:latin typeface="Arial"/>
              </a:rPr>
              <a:t>48 independent pul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cc00"/>
                </a:solidFill>
                <a:latin typeface="Arial"/>
              </a:rPr>
              <a:t>    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042920" y="3213000"/>
            <a:ext cx="224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X Mod rain 0.7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332000" y="4005360"/>
            <a:ext cx="3316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-25000">
                <a:solidFill>
                  <a:srgbClr val="333399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X   Stormy rain 0.4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80360" y="1573200"/>
            <a:ext cx="1176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ZD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dB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72000" y="5373720"/>
            <a:ext cx="77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Symbol"/>
                <a:ea typeface="Symbol"/>
              </a:rPr>
              <a:t>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1m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Do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wid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49800" y="5373720"/>
            <a:ext cx="7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m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91400" y="5681520"/>
            <a:ext cx="572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rmalised Doppler width = Dopp Width/2*folding ve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62520" y="1905120"/>
            <a:ext cx="4825800" cy="95436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Antenna imperfections and sidelobes can make the errors wors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Remember values of Z</a:t>
            </a:r>
            <a:r>
              <a:rPr b="0" lang="en-GB" sz="1800" spc="-1" strike="noStrike" baseline="-25000">
                <a:solidFill>
                  <a:srgbClr val="009999"/>
                </a:solidFill>
                <a:latin typeface="Arial"/>
              </a:rPr>
              <a:t>DR</a:t>
            </a: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 often only 1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392200" y="1720800"/>
            <a:ext cx="131616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26720" y="43131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.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45440" y="49417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.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1600" y="2346480"/>
            <a:ext cx="79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dB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114800" y="3048120"/>
            <a:ext cx="440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UESTION: How does this noise aff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stimates of 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CD71-8C0A-40D2-97FE-8EEFE03B1AE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84360" y="2133720"/>
            <a:ext cx="4572000" cy="38005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tandard deviation in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D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.97, 0.98, 0.99  as a function of Doppler width.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=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905120" y="3345480"/>
            <a:ext cx="129528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8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403280" y="429264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66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in stormy wea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00000" y="357336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5</a:t>
            </a:r>
            <a:r>
              <a:rPr b="0" lang="en-US" sz="2400" spc="-1" strike="noStrike">
                <a:solidFill>
                  <a:srgbClr val="0066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in mod 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57800" y="5805360"/>
            <a:ext cx="70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m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478520" y="5805360"/>
            <a:ext cx="89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.5m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67840" y="6064200"/>
            <a:ext cx="250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rmalised Doppler 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327480" y="61866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08080" y="1819440"/>
            <a:ext cx="84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D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198900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581280" y="1905120"/>
            <a:ext cx="4681800" cy="260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1" lang="en-GB" sz="1800" spc="-1" strike="noStrike" baseline="-25000">
                <a:solidFill>
                  <a:srgbClr val="ff0000"/>
                </a:solidFill>
                <a:latin typeface="Arial"/>
              </a:rPr>
              <a:t>DP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 is the gradient of </a:t>
            </a:r>
            <a:r>
              <a:rPr b="1" lang="en-GB" sz="1800" spc="-1" strike="noStrike">
                <a:solidFill>
                  <a:srgbClr val="ff0000"/>
                </a:solidFill>
                <a:latin typeface="Symbol"/>
                <a:ea typeface="Symbol"/>
              </a:rPr>
              <a:t>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1800" spc="-1" strike="noStrike" baseline="-25000">
                <a:solidFill>
                  <a:srgbClr val="ff0000"/>
                </a:solidFill>
                <a:latin typeface="Arial"/>
              </a:rPr>
              <a:t>DP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with rang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Differentiating noisy </a:t>
            </a:r>
            <a:r>
              <a:rPr b="1" lang="en-GB" sz="1800" spc="-1" strike="noStrike">
                <a:solidFill>
                  <a:srgbClr val="ff0000"/>
                </a:solidFill>
                <a:latin typeface="Symbol"/>
                <a:ea typeface="Symbol"/>
              </a:rPr>
              <a:t></a:t>
            </a:r>
            <a:r>
              <a:rPr b="1" lang="en-GB" sz="1800" spc="-1" strike="noStrike" baseline="-25000">
                <a:solidFill>
                  <a:srgbClr val="ff0000"/>
                </a:solidFill>
                <a:latin typeface="Arial"/>
              </a:rPr>
              <a:t>DP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sig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gives an even noisier K </a:t>
            </a:r>
            <a:r>
              <a:rPr b="1" lang="en-GB" sz="1800" spc="-1" strike="noStrike" baseline="-25000">
                <a:solidFill>
                  <a:srgbClr val="ff0000"/>
                </a:solidFill>
                <a:latin typeface="Arial"/>
              </a:rPr>
              <a:t>DP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QUES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K</a:t>
            </a:r>
            <a:r>
              <a:rPr b="1" lang="en-GB" sz="1800" spc="-1" strike="noStrike" baseline="-25000">
                <a:solidFill>
                  <a:srgbClr val="333399"/>
                </a:solidFill>
                <a:latin typeface="Arial"/>
              </a:rPr>
              <a:t>DP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 of 1deg/km is about 55mm/h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Can we measure if that if </a:t>
            </a:r>
            <a:r>
              <a:rPr b="1" lang="en-GB" sz="1800" spc="-1" strike="noStrike">
                <a:solidFill>
                  <a:srgbClr val="333399"/>
                </a:solidFill>
                <a:latin typeface="Symbol"/>
                <a:ea typeface="Symbol"/>
              </a:rPr>
              <a:t></a:t>
            </a:r>
            <a:r>
              <a:rPr b="1" lang="en-GB" sz="1800" spc="-1" strike="noStrike" baseline="-25000">
                <a:solidFill>
                  <a:srgbClr val="333399"/>
                </a:solidFill>
                <a:latin typeface="Arial"/>
              </a:rPr>
              <a:t>DP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so nois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319480" y="2081160"/>
            <a:ext cx="1388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889A-5873-4ECA-8DC4-236EA7201FB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488880"/>
            <a:ext cx="8317080" cy="59882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55640" y="0"/>
            <a:ext cx="720108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Non uniform beam filling: can give –ve K</a:t>
            </a:r>
            <a:r>
              <a:rPr b="1" lang="en-GB" sz="2400" spc="-1" strike="noStrike" baseline="-25000">
                <a:solidFill>
                  <a:srgbClr val="ff0000"/>
                </a:solidFill>
                <a:latin typeface="Arial"/>
              </a:rPr>
              <a:t>DP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-25000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76800" y="1773360"/>
            <a:ext cx="3069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ppose initial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DP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= 0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avy precip (say) on lef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de of beam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DP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= 40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urther out, precip (s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ght side of beam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affected by propa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DP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40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K 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DP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&lt;0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X-band: from Gosset J Tech, 2004)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F028-D5CB-49FD-A21F-9366C64BF73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4. Use of Z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Arial"/>
              </a:rPr>
              <a:t>DR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 &amp; K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Arial"/>
              </a:rPr>
              <a:t>DP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en-GB" sz="2800" spc="-1" strike="noStrike">
                <a:solidFill>
                  <a:srgbClr val="ff0000"/>
                </a:solidFill>
                <a:latin typeface="Symbol"/>
                <a:ea typeface="Symbol"/>
              </a:rPr>
              <a:t>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Arial"/>
              </a:rPr>
              <a:t>DP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for more accurate rainra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  APPROACH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– Calculate R as a function of Z, 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 analytical expressions for theoretical rain drop size spect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IRICAL – Calculate values of Z, 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R for many observed rain drop size spectra – find relationships to predict R by a best f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THETIC  - Adjust relationship between R and Z, 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o that there is best agreement between the radar and the gauge tot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25960" y="5562720"/>
            <a:ext cx="80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QUESTION:  Which method do you expect to be best in practi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7A5C-ACD8-4320-8A10-AF5BCBA61EA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056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 Why  is it difficult to obtain reliable rain rates from Z alone?</a:t>
            </a: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. Define dual polarisation parameters. Z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D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D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|K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DP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hv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and LDR  - using simple dipole explanation. </a:t>
            </a: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.  Accuracy of the dual polarisation parameters.</a:t>
            </a: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.  Use of Z, Z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DR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D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|K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DP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for more accurate rainfall estimates +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errors for data assimilation</a:t>
            </a: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.  Unwanted backscatter and attenuation.  C-band and X-band radars. </a:t>
            </a: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. Conclusions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5262480"/>
            <a:ext cx="6400800" cy="26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260280"/>
            <a:ext cx="229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OUTLIN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7A14-7CE8-442D-AFFA-6F2307348F7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rop shape mod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rly work assumed drops &lt;0.6 mm were spherical, for larger drops the axial ratio decreased linearly with drop size, with slope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1982, to make radar observed Z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D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gree with disdrometer, Goddard et al proposed that drops &lt;4mm were more spheric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1999, lab experiments by Andsager et al., confirmed that this empirical adjustment of drop shapes was essentially correc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68360" y="2781360"/>
            <a:ext cx="4781520" cy="37432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5198760" y="2895480"/>
            <a:ext cx="3708720" cy="29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00"/>
                </a:solidFill>
                <a:latin typeface="Arial"/>
              </a:rPr>
              <a:t>Values of Z</a:t>
            </a:r>
            <a:r>
              <a:rPr b="0" lang="en-GB" sz="1800" spc="-1" strike="noStrike" baseline="-25000">
                <a:solidFill>
                  <a:srgbClr val="006600"/>
                </a:solidFill>
                <a:latin typeface="Arial"/>
              </a:rPr>
              <a:t>DR</a:t>
            </a:r>
            <a:r>
              <a:rPr b="0" lang="en-GB" sz="1800" spc="-1" strike="noStrike">
                <a:solidFill>
                  <a:srgbClr val="006600"/>
                </a:solidFill>
                <a:latin typeface="Arial"/>
              </a:rPr>
              <a:t> and K</a:t>
            </a:r>
            <a:r>
              <a:rPr b="0" lang="en-GB" sz="1800" spc="-1" strike="noStrike" baseline="-25000">
                <a:solidFill>
                  <a:srgbClr val="006600"/>
                </a:solidFill>
                <a:latin typeface="Arial"/>
              </a:rPr>
              <a:t>DP </a:t>
            </a:r>
            <a:r>
              <a:rPr b="0" lang="en-GB" sz="1800" spc="-1" strike="noStrike">
                <a:solidFill>
                  <a:srgbClr val="006600"/>
                </a:solidFill>
                <a:latin typeface="Arial"/>
              </a:rPr>
              <a:t>us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00"/>
                </a:solidFill>
                <a:latin typeface="Arial"/>
              </a:rPr>
              <a:t>Andsager et al., or Goddard et 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00"/>
                </a:solidFill>
                <a:latin typeface="Arial"/>
              </a:rPr>
              <a:t>drop shapes are essential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00"/>
                </a:solidFill>
                <a:latin typeface="Arial"/>
              </a:rPr>
              <a:t>identical –  </a:t>
            </a:r>
            <a:r>
              <a:rPr b="0" lang="en-GB" sz="1800" spc="-1" strike="noStrike" u="sng">
                <a:solidFill>
                  <a:srgbClr val="ff0000"/>
                </a:solidFill>
                <a:uFillTx/>
                <a:latin typeface="Arial"/>
              </a:rPr>
              <a:t>use these from now on</a:t>
            </a:r>
            <a:r>
              <a:rPr b="0" lang="en-GB" sz="1800" spc="-1" strike="noStrike">
                <a:solidFill>
                  <a:srgbClr val="0066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Linear model predicts different Z</a:t>
            </a:r>
            <a:r>
              <a:rPr b="0" lang="en-GB" sz="1800" spc="-1" strike="noStrike" baseline="-25000">
                <a:solidFill>
                  <a:srgbClr val="009999"/>
                </a:solidFill>
                <a:latin typeface="Arial"/>
              </a:rPr>
              <a:t>DR</a:t>
            </a: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K</a:t>
            </a:r>
            <a:r>
              <a:rPr b="0" lang="en-GB" sz="1800" spc="-1" strike="noStrike" baseline="-25000">
                <a:solidFill>
                  <a:srgbClr val="009999"/>
                </a:solidFill>
                <a:latin typeface="Arial"/>
              </a:rPr>
              <a:t>DP</a:t>
            </a: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, and rain ra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A recent approach is to have </a:t>
            </a:r>
            <a:r>
              <a:rPr b="0" lang="en-GB" sz="1800" spc="-1" strike="noStrike">
                <a:solidFill>
                  <a:srgbClr val="009999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 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a ‘free’ variable – i.e. drop sha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vary (with turbulence?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0400" y="5791320"/>
            <a:ext cx="36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UESTION: is this a good ide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52280" y="2895480"/>
            <a:ext cx="30492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" y="6400800"/>
            <a:ext cx="45720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105520" y="6172200"/>
            <a:ext cx="114300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0580-A712-4A1E-98A2-7CBAC3889EF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7854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Heavy convective rain:  R from K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Arial"/>
              </a:rPr>
              <a:t>DP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|</a:t>
            </a:r>
            <a:r>
              <a:rPr b="1" lang="en-GB" sz="2800" spc="-1" strike="noStrike">
                <a:solidFill>
                  <a:srgbClr val="ff0000"/>
                </a:solidFill>
                <a:latin typeface="Symbol"/>
                <a:ea typeface="Symbol"/>
              </a:rPr>
              <a:t>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Arial"/>
              </a:rPr>
              <a:t>D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68680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72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HYSICAL – Assume that the raindrop spectra are an exponential, but with rather fewer large drops (i.e. gamma function with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=5)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.g.    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R = 50.1 K</a:t>
            </a:r>
            <a:r>
              <a:rPr b="1" lang="en-GB" sz="1800" spc="-1" strike="noStrike" baseline="-25000">
                <a:solidFill>
                  <a:srgbClr val="ff0000"/>
                </a:solidFill>
                <a:latin typeface="Arial"/>
              </a:rPr>
              <a:t>DP</a:t>
            </a:r>
            <a:r>
              <a:rPr b="1" lang="en-GB" sz="1800" spc="-1" strike="noStrike" baseline="30000">
                <a:solidFill>
                  <a:srgbClr val="ff0000"/>
                </a:solidFill>
                <a:latin typeface="Arial"/>
              </a:rPr>
              <a:t>0.7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(Illingworth and Blackman, JAM, 2002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MPIRICAL – fit from many observed spectra;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.g.   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R = 50.7 K</a:t>
            </a:r>
            <a:r>
              <a:rPr b="1" lang="en-GB" sz="1800" spc="-1" strike="noStrike" baseline="-25000">
                <a:solidFill>
                  <a:srgbClr val="ff0000"/>
                </a:solidFill>
                <a:latin typeface="Arial"/>
              </a:rPr>
              <a:t>DP</a:t>
            </a:r>
            <a:r>
              <a:rPr b="1" lang="en-GB" sz="1800" spc="-1" strike="noStrike" baseline="30000">
                <a:solidFill>
                  <a:srgbClr val="ff0000"/>
                </a:solidFill>
                <a:latin typeface="Arial"/>
              </a:rPr>
              <a:t>0.866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B&amp;C, 2001,  CUP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YNTHETIC  -    Ryzhkov et al,      (BAMS, 2005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R =   44.0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|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1" lang="en-GB" sz="1800" spc="-1" strike="noStrike" baseline="-25000">
                <a:solidFill>
                  <a:srgbClr val="ff0000"/>
                </a:solidFill>
                <a:latin typeface="Arial"/>
              </a:rPr>
              <a:t>DP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|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GB" sz="1800" spc="-1" strike="noStrike" baseline="30000">
                <a:solidFill>
                  <a:srgbClr val="ff0000"/>
                </a:solidFill>
                <a:latin typeface="Arial"/>
              </a:rPr>
              <a:t>0.822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  sign(K</a:t>
            </a:r>
            <a:r>
              <a:rPr b="1" lang="en-GB" sz="1800" spc="-1" strike="noStrike" baseline="-25000">
                <a:solidFill>
                  <a:srgbClr val="ff0000"/>
                </a:solidFill>
                <a:latin typeface="Arial"/>
              </a:rPr>
              <a:t>DP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gative K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DP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lues gives negative rainfa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79280" y="2997360"/>
            <a:ext cx="4464000" cy="35208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3133440" y="3213000"/>
            <a:ext cx="5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Arial"/>
              </a:rPr>
              <a:t>h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716360" y="4724280"/>
            <a:ext cx="40528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clearly ‘SYNTHETIC’ 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D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valuable in hail, when high Z gives big overestimate of 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716360" y="3521160"/>
            <a:ext cx="4248360" cy="64260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UESTION:Can you average out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negative rainfall to give net positiv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8E95-48F2-4C4F-A61D-ED6F57C839D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7854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Effect of noise on R from K</a:t>
            </a:r>
            <a:r>
              <a:rPr b="1" lang="en-GB" sz="3200" spc="-1" strike="noStrike" baseline="-25000">
                <a:solidFill>
                  <a:srgbClr val="ff0000"/>
                </a:solidFill>
                <a:latin typeface="Arial"/>
              </a:rPr>
              <a:t>DP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|</a:t>
            </a:r>
            <a:r>
              <a:rPr b="1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</a:t>
            </a:r>
            <a:r>
              <a:rPr b="1" lang="en-GB" sz="3200" spc="-1" strike="noStrike" baseline="-25000">
                <a:solidFill>
                  <a:srgbClr val="ff0000"/>
                </a:solidFill>
                <a:latin typeface="Arial"/>
              </a:rPr>
              <a:t>D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95280" y="692280"/>
            <a:ext cx="8229600" cy="83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 relationship: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 = 50.7 K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DP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0.866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a KDP of 1deg/km is equivalent to 50.7mm/h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80880" y="1447920"/>
            <a:ext cx="7462800" cy="17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If </a:t>
            </a:r>
            <a:r>
              <a:rPr b="1" lang="en-GB" sz="16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en-GB" sz="1600" spc="-1" strike="noStrike">
                <a:solidFill>
                  <a:srgbClr val="ff0000"/>
                </a:solidFill>
                <a:latin typeface="Symbol"/>
                <a:ea typeface="Symbol"/>
              </a:rPr>
              <a:t></a:t>
            </a:r>
            <a:r>
              <a:rPr b="1" lang="en-GB" sz="1600" spc="-1" strike="noStrike" baseline="-25000">
                <a:solidFill>
                  <a:srgbClr val="ff0000"/>
                </a:solidFill>
                <a:latin typeface="Arial"/>
              </a:rPr>
              <a:t>DP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) = 3 or 5</a:t>
            </a:r>
            <a:r>
              <a:rPr b="1" lang="en-GB" sz="1600" spc="-1" strike="noStrike">
                <a:solidFill>
                  <a:srgbClr val="ff0000"/>
                </a:solidFill>
                <a:latin typeface="Symbol"/>
                <a:ea typeface="Symbol"/>
              </a:rPr>
              <a:t>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 then how accurate can we estimate K</a:t>
            </a:r>
            <a:r>
              <a:rPr b="1" lang="en-GB" sz="1600" spc="-1" strike="noStrike" baseline="-25000">
                <a:solidFill>
                  <a:srgbClr val="ff0000"/>
                </a:solidFill>
                <a:latin typeface="Arial"/>
              </a:rPr>
              <a:t>DP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For N gates with a total path of L km use least squares fit to find K</a:t>
            </a:r>
            <a:r>
              <a:rPr b="1" lang="en-GB" sz="1600" spc="-1" strike="noStrike" baseline="-25000">
                <a:solidFill>
                  <a:srgbClr val="ff0000"/>
                </a:solidFill>
                <a:latin typeface="Arial"/>
              </a:rPr>
              <a:t>DP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and its error       </a:t>
            </a:r>
            <a:r>
              <a:rPr b="1" lang="en-GB" sz="24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(K</a:t>
            </a:r>
            <a:r>
              <a:rPr b="1" lang="en-GB" sz="2400" spc="-1" strike="noStrike" baseline="-25000">
                <a:solidFill>
                  <a:srgbClr val="ff0000"/>
                </a:solidFill>
                <a:latin typeface="Arial"/>
              </a:rPr>
              <a:t>DP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)                          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  (B&amp;C, Eq 6.15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3640" y="2819520"/>
            <a:ext cx="6999120" cy="18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6600"/>
                </a:solidFill>
                <a:latin typeface="Arial"/>
              </a:rPr>
              <a:t>NEXRAD scan rate,           9 gates of 267m (L=2.4km)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Arial"/>
              </a:rPr>
              <a:t>‘</a:t>
            </a:r>
            <a:r>
              <a:rPr b="1" lang="en-GB" sz="1600" spc="-1" strike="noStrike">
                <a:solidFill>
                  <a:srgbClr val="006600"/>
                </a:solidFill>
                <a:latin typeface="Arial"/>
              </a:rPr>
              <a:t>stormy weather’  </a:t>
            </a:r>
            <a:r>
              <a:rPr b="1" lang="en-GB" sz="1600" spc="-1" strike="noStrike">
                <a:solidFill>
                  <a:srgbClr val="006600"/>
                </a:solidFill>
                <a:latin typeface="Symbol"/>
                <a:ea typeface="Symbol"/>
              </a:rPr>
              <a:t></a:t>
            </a:r>
            <a:r>
              <a:rPr b="1" lang="en-GB" sz="1600" spc="-1" strike="noStrike">
                <a:solidFill>
                  <a:srgbClr val="006600"/>
                </a:solidFill>
                <a:latin typeface="Arial"/>
              </a:rPr>
              <a:t>(</a:t>
            </a:r>
            <a:r>
              <a:rPr b="1" lang="en-GB" sz="1600" spc="-1" strike="noStrike">
                <a:solidFill>
                  <a:srgbClr val="006600"/>
                </a:solidFill>
                <a:latin typeface="Symbol"/>
                <a:ea typeface="Symbol"/>
              </a:rPr>
              <a:t></a:t>
            </a:r>
            <a:r>
              <a:rPr b="1" lang="en-GB" sz="1600" spc="-1" strike="noStrike" baseline="-25000">
                <a:solidFill>
                  <a:srgbClr val="006600"/>
                </a:solidFill>
                <a:latin typeface="Arial"/>
              </a:rPr>
              <a:t>DP</a:t>
            </a:r>
            <a:r>
              <a:rPr b="1" lang="en-GB" sz="1600" spc="-1" strike="noStrike">
                <a:solidFill>
                  <a:srgbClr val="006600"/>
                </a:solidFill>
                <a:latin typeface="Arial"/>
              </a:rPr>
              <a:t>) = 3</a:t>
            </a:r>
            <a:r>
              <a:rPr b="1" lang="en-GB" sz="1600" spc="-1" strike="noStrike">
                <a:solidFill>
                  <a:srgbClr val="006600"/>
                </a:solidFill>
                <a:latin typeface="Symbol"/>
                <a:ea typeface="Symbol"/>
              </a:rPr>
              <a:t></a:t>
            </a:r>
            <a:r>
              <a:rPr b="1" lang="en-GB" sz="1600" spc="-1" strike="noStrike">
                <a:solidFill>
                  <a:srgbClr val="006600"/>
                </a:solidFill>
                <a:latin typeface="Arial"/>
              </a:rPr>
              <a:t>  then </a:t>
            </a:r>
            <a:r>
              <a:rPr b="1" lang="en-GB" sz="16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(K</a:t>
            </a:r>
            <a:r>
              <a:rPr b="1" lang="en-GB" sz="1600" spc="-1" strike="noStrike" baseline="-25000">
                <a:solidFill>
                  <a:srgbClr val="ff0000"/>
                </a:solidFill>
                <a:latin typeface="Arial"/>
              </a:rPr>
              <a:t>DP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) = 0.72</a:t>
            </a:r>
            <a:r>
              <a:rPr b="1" lang="en-GB" sz="1600" spc="-1" strike="noStrike">
                <a:solidFill>
                  <a:srgbClr val="ff0000"/>
                </a:solidFill>
                <a:latin typeface="Symbol"/>
                <a:ea typeface="Symbol"/>
              </a:rPr>
              <a:t>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/km  </a:t>
            </a:r>
            <a:r>
              <a:rPr b="1" lang="en-GB" sz="1600" spc="-1" strike="noStrike">
                <a:solidFill>
                  <a:srgbClr val="ff0000"/>
                </a:solidFill>
                <a:latin typeface="Symbol"/>
                <a:ea typeface="Symbol"/>
              </a:rPr>
              <a:t>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 37mm/h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Arial"/>
              </a:rPr>
              <a:t>Use 25 gates, L=6.6km, for ‘lighter’ rain with lower Doppler width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Arial"/>
              </a:rPr>
              <a:t>           </a:t>
            </a:r>
            <a:r>
              <a:rPr b="1" lang="en-GB" sz="1600" spc="-1" strike="noStrike">
                <a:solidFill>
                  <a:srgbClr val="006600"/>
                </a:solidFill>
                <a:latin typeface="Symbol"/>
                <a:ea typeface="Symbol"/>
              </a:rPr>
              <a:t></a:t>
            </a:r>
            <a:r>
              <a:rPr b="1" lang="en-GB" sz="1600" spc="-1" strike="noStrike">
                <a:solidFill>
                  <a:srgbClr val="006600"/>
                </a:solidFill>
                <a:latin typeface="Arial"/>
              </a:rPr>
              <a:t>(</a:t>
            </a:r>
            <a:r>
              <a:rPr b="1" lang="en-GB" sz="1600" spc="-1" strike="noStrike">
                <a:solidFill>
                  <a:srgbClr val="006600"/>
                </a:solidFill>
                <a:latin typeface="Symbol"/>
                <a:ea typeface="Symbol"/>
              </a:rPr>
              <a:t></a:t>
            </a:r>
            <a:r>
              <a:rPr b="1" lang="en-GB" sz="1600" spc="-1" strike="noStrike" baseline="-25000">
                <a:solidFill>
                  <a:srgbClr val="006600"/>
                </a:solidFill>
                <a:latin typeface="Arial"/>
              </a:rPr>
              <a:t>DP</a:t>
            </a:r>
            <a:r>
              <a:rPr b="1" lang="en-GB" sz="1600" spc="-1" strike="noStrike">
                <a:solidFill>
                  <a:srgbClr val="006600"/>
                </a:solidFill>
                <a:latin typeface="Arial"/>
              </a:rPr>
              <a:t>) = 5</a:t>
            </a:r>
            <a:r>
              <a:rPr b="1" lang="en-GB" sz="1600" spc="-1" strike="noStrike">
                <a:solidFill>
                  <a:srgbClr val="006600"/>
                </a:solidFill>
                <a:latin typeface="Symbol"/>
                <a:ea typeface="Symbol"/>
              </a:rPr>
              <a:t></a:t>
            </a:r>
            <a:r>
              <a:rPr b="1" lang="en-GB" sz="1600" spc="-1" strike="noStrike">
                <a:solidFill>
                  <a:srgbClr val="006600"/>
                </a:solidFill>
                <a:latin typeface="Arial"/>
              </a:rPr>
              <a:t>  then </a:t>
            </a:r>
            <a:r>
              <a:rPr b="1" lang="en-GB" sz="16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(K</a:t>
            </a:r>
            <a:r>
              <a:rPr b="1" lang="en-GB" sz="1600" spc="-1" strike="noStrike" baseline="-25000">
                <a:solidFill>
                  <a:srgbClr val="ff0000"/>
                </a:solidFill>
                <a:latin typeface="Arial"/>
              </a:rPr>
              <a:t>DP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) = 0.26</a:t>
            </a:r>
            <a:r>
              <a:rPr b="1" lang="en-GB" sz="1600" spc="-1" strike="noStrike">
                <a:solidFill>
                  <a:srgbClr val="ff0000"/>
                </a:solidFill>
                <a:latin typeface="Symbol"/>
                <a:ea typeface="Symbol"/>
              </a:rPr>
              <a:t>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/km  </a:t>
            </a:r>
            <a:r>
              <a:rPr b="1" lang="en-GB" sz="1600" spc="-1" strike="noStrike">
                <a:solidFill>
                  <a:srgbClr val="ff0000"/>
                </a:solidFill>
                <a:latin typeface="Symbol"/>
                <a:ea typeface="Symbol"/>
              </a:rPr>
              <a:t>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 16mm/hr accura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6600"/>
                </a:solidFill>
                <a:latin typeface="Arial"/>
              </a:rPr>
              <a:t>but averaging over 6.6km   </a:t>
            </a:r>
            <a:r>
              <a:rPr b="1" lang="en-GB" sz="1600" spc="-1" strike="noStrike">
                <a:solidFill>
                  <a:srgbClr val="006600"/>
                </a:solidFill>
                <a:latin typeface="Symbol"/>
                <a:ea typeface="Symbol"/>
              </a:rPr>
              <a:t></a:t>
            </a:r>
            <a:r>
              <a:rPr b="1" lang="en-GB" sz="1600" spc="-1" strike="noStrike">
                <a:solidFill>
                  <a:srgbClr val="006600"/>
                </a:solidFill>
                <a:latin typeface="Arial"/>
              </a:rPr>
              <a:t>  unacceptable loss of spatial accurac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" y="4724280"/>
            <a:ext cx="7008840" cy="13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CONCLUDE: K</a:t>
            </a:r>
            <a:r>
              <a:rPr b="1" lang="en-GB" sz="2000" spc="-1" strike="noStrike" baseline="-25000">
                <a:solidFill>
                  <a:srgbClr val="ff0000"/>
                </a:solidFill>
                <a:latin typeface="Arial"/>
              </a:rPr>
              <a:t>DP,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noisy but  BAMS (Ryzhkov et al., 2005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article shows improved R from K</a:t>
            </a:r>
            <a:r>
              <a:rPr b="1" lang="en-GB" sz="2000" spc="-1" strike="noStrike" baseline="-25000">
                <a:solidFill>
                  <a:srgbClr val="ff0000"/>
                </a:solidFill>
                <a:latin typeface="Arial"/>
              </a:rPr>
              <a:t>DP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 in hail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563868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00120" y="5546880"/>
            <a:ext cx="750528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QUESTION:  What is the minimum R for which K</a:t>
            </a:r>
            <a:r>
              <a:rPr b="1" lang="en-US" sz="2000" spc="-1" strike="noStrike" baseline="-25000">
                <a:solidFill>
                  <a:srgbClr val="333399"/>
                </a:solidFill>
                <a:latin typeface="Arial"/>
              </a:rPr>
              <a:t>DP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is useful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4ECB-2767-4486-928C-E5D3D160401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-181080" y="2421000"/>
            <a:ext cx="5813640" cy="415584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7854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ainfall  from Z and Z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DR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PHYSICA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– Assume exponential spectrum: N(D) = N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exp(-3.67D/D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N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= 4224 m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m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-1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gives  Z = 300 R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1.5.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ose to Nexrad:    Z = 300 R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1.4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r   R = 0.072 Z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0.714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ACK LINE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: Calculate Z and Z</a:t>
            </a:r>
            <a:r>
              <a:rPr b="0" lang="en-GB" sz="1800" spc="-1" strike="noStrike" baseline="-25000">
                <a:solidFill>
                  <a:srgbClr val="ff0000"/>
                </a:solidFill>
                <a:latin typeface="Arial"/>
              </a:rPr>
              <a:t>DR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 as D</a:t>
            </a:r>
            <a:r>
              <a:rPr b="0" lang="en-GB" sz="1800" spc="-1" strike="noStrike" baseline="-25000">
                <a:solidFill>
                  <a:srgbClr val="ff0000"/>
                </a:solidFill>
                <a:latin typeface="Arial"/>
              </a:rPr>
              <a:t>0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 increases for R = 0.5 to 80mm/h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256360" y="3352680"/>
            <a:ext cx="3887640" cy="299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const then so is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D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.e assume shape of spectra cons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Scaling Z (keeping 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D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nstant) implies same scaling of  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amp;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   R = a  Z  f(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D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llingworth and Blackman, JAM 200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(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D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decreases as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D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creases – larger mean drop siz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047560" y="2514600"/>
            <a:ext cx="3880800" cy="405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ote spread in Z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DR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for 0.6dB no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09880" y="6256440"/>
            <a:ext cx="4876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UESTION: What does Z</a:t>
            </a:r>
            <a:r>
              <a:rPr b="1" lang="en-US" sz="1800" spc="-1" strike="noStrike" baseline="-25000">
                <a:solidFill>
                  <a:srgbClr val="333399"/>
                </a:solidFill>
                <a:latin typeface="Arial"/>
              </a:rPr>
              <a:t>DR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lt;0dB mea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209D-1F42-4501-9C35-A144A1B5C98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-252360" y="1844640"/>
            <a:ext cx="5940360" cy="424656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7854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ainfall  from Z and Z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Arial"/>
              </a:rPr>
              <a:t>D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8229600" cy="60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PHYSICA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– Assume exponential spectrum: N(D) = N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exp(-3.67D/D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pose N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=4224 m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m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-1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gives  Z = 300 R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1.5.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{nexra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Z=300R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1.4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LACK line Z=300 R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1.5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 +  Suppose 0.6dB scatter in Z</a:t>
            </a:r>
            <a:r>
              <a:rPr b="0" lang="en-GB" sz="2000" spc="-1" strike="noStrike" baseline="-25000">
                <a:solidFill>
                  <a:srgbClr val="ff0000"/>
                </a:solidFill>
                <a:latin typeface="Arial"/>
              </a:rPr>
              <a:t>D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Z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D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const, then so is D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and Z scales with N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N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xes ‘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181480" y="2362320"/>
            <a:ext cx="3708360" cy="46328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00"/>
                </a:solidFill>
                <a:latin typeface="Arial"/>
              </a:rPr>
              <a:t>1.  Averaging over 4 x 267m g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00"/>
                </a:solidFill>
                <a:latin typeface="Arial"/>
              </a:rPr>
              <a:t>gives resolution </a:t>
            </a:r>
            <a:r>
              <a:rPr b="0" lang="en-GB" sz="1800" spc="-1" strike="noStrike">
                <a:solidFill>
                  <a:srgbClr val="006600"/>
                </a:solidFill>
                <a:latin typeface="Symbol"/>
                <a:ea typeface="Symbol"/>
              </a:rPr>
              <a:t></a:t>
            </a:r>
            <a:r>
              <a:rPr b="0" lang="en-GB" sz="1800" spc="-1" strike="noStrike">
                <a:solidFill>
                  <a:srgbClr val="006600"/>
                </a:solidFill>
                <a:latin typeface="Arial"/>
              </a:rPr>
              <a:t> 1km by 1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Halves errors to 0.3dB.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2.  R = 1 and 10mm/hr can st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have the same Z</a:t>
            </a:r>
            <a:r>
              <a:rPr b="0" lang="en-GB" sz="1800" spc="-1" strike="noStrike" baseline="-25000">
                <a:solidFill>
                  <a:srgbClr val="009999"/>
                </a:solidFill>
                <a:latin typeface="Arial"/>
              </a:rPr>
              <a:t>D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9999"/>
                </a:solidFill>
                <a:latin typeface="Arial"/>
              </a:rPr>
              <a:t>Z</a:t>
            </a:r>
            <a:r>
              <a:rPr b="1" lang="en-GB" sz="1800" spc="-1" strike="noStrike" baseline="-25000">
                <a:solidFill>
                  <a:srgbClr val="009999"/>
                </a:solidFill>
                <a:latin typeface="Arial"/>
              </a:rPr>
              <a:t>DR </a:t>
            </a:r>
            <a:r>
              <a:rPr b="1" lang="en-GB" sz="1800" spc="-1" strike="noStrike">
                <a:solidFill>
                  <a:srgbClr val="009999"/>
                </a:solidFill>
                <a:latin typeface="Arial"/>
              </a:rPr>
              <a:t>can still go negati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SOLUTIO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00"/>
                </a:solidFill>
                <a:latin typeface="Arial"/>
              </a:rPr>
              <a:t>Scan  more slowly? 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00"/>
                </a:solidFill>
                <a:latin typeface="Arial"/>
              </a:rPr>
              <a:t>Need scan every 2.5mi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2. Use Z</a:t>
            </a:r>
            <a:r>
              <a:rPr b="0" lang="en-GB" sz="1800" spc="-1" strike="noStrike" baseline="-25000">
                <a:solidFill>
                  <a:srgbClr val="ff0000"/>
                </a:solidFill>
                <a:latin typeface="Arial"/>
              </a:rPr>
              <a:t>dr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 in linear units so alw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&gt;0 &amp; hope problem goes away?</a:t>
            </a: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00"/>
                </a:solidFill>
                <a:latin typeface="Arial"/>
              </a:rPr>
              <a:t>3. Use scatter of Z and Z</a:t>
            </a:r>
            <a:r>
              <a:rPr b="0" lang="en-GB" sz="1800" spc="-1" strike="noStrike" baseline="-25000">
                <a:solidFill>
                  <a:srgbClr val="006600"/>
                </a:solidFill>
                <a:latin typeface="Arial"/>
              </a:rPr>
              <a:t>DR</a:t>
            </a:r>
            <a:r>
              <a:rPr b="0" lang="en-GB" sz="1800" spc="-1" strike="noStrike">
                <a:solidFill>
                  <a:srgbClr val="006600"/>
                </a:solidFill>
                <a:latin typeface="Arial"/>
              </a:rPr>
              <a:t> 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00"/>
                </a:solidFill>
                <a:latin typeface="Arial"/>
              </a:rPr>
              <a:t>a region to fix ‘a’ in Z = a R</a:t>
            </a:r>
            <a:r>
              <a:rPr b="0" lang="en-GB" sz="1800" spc="-1" strike="noStrike" baseline="30000">
                <a:solidFill>
                  <a:srgbClr val="006600"/>
                </a:solidFill>
                <a:latin typeface="Arial"/>
              </a:rPr>
              <a:t>1.5</a:t>
            </a:r>
            <a:r>
              <a:rPr b="0" lang="en-GB" sz="1800" spc="-1" strike="noStrike">
                <a:solidFill>
                  <a:srgbClr val="0066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6600"/>
                </a:solidFill>
                <a:latin typeface="Arial"/>
              </a:rPr>
              <a:t>AND ALSO ERROR IN ‘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6600"/>
                </a:solidFill>
                <a:latin typeface="Arial"/>
              </a:rPr>
              <a:t>AND RAIN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5943600"/>
            <a:ext cx="20574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0" lang="en-GB" sz="1800" spc="-1" strike="noStrike" baseline="-25000">
                <a:solidFill>
                  <a:srgbClr val="ff0000"/>
                </a:solidFill>
                <a:latin typeface="Arial"/>
              </a:rPr>
              <a:t>dr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(lin)   0.3     1.0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38080" y="6248520"/>
            <a:ext cx="30492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624852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0B95-205D-4394-ADD8-5AF771919AE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catter of Z and Z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Arial"/>
              </a:rPr>
              <a:t>DR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from J-PO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30200" y="2924280"/>
            <a:ext cx="8713800" cy="330336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324000" y="981000"/>
            <a:ext cx="421308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opical Rain’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ise in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D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o values down to -0.4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drop concentratio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D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only 1dB for Z=50dB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’ in Z = a R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.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is low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019840" y="1413000"/>
            <a:ext cx="261900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in mixed with hail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’t use Z/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D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trie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Need to recognize ha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-7920" y="6021360"/>
            <a:ext cx="29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From Ryzhkov et al. BAMS, 2005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989080" y="6093000"/>
            <a:ext cx="532116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UESTION: How do you really know if its hail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A862-2681-46CC-80AF-C0F8161EA0B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7854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ainfall  from Z and Z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DR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0000"/>
                </a:solidFill>
                <a:uFillTx/>
                <a:latin typeface="Arial"/>
              </a:rPr>
              <a:t>PHYSICA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– Assume exponential or well defined spectrum.  R = a Z f(Z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D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ce Z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DR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 known, then R and Z scale with concentration N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0000"/>
                </a:solidFill>
                <a:uFillTx/>
                <a:latin typeface="Arial"/>
              </a:rPr>
              <a:t>EMPIRICA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Calculate R, Z and Z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D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from drop spectra  - best f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avoid errors when Z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D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ends to 0dB’ use linear Z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d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 Z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Z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.g.       R = 0.0067 Z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0.9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Z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d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lin)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-3.43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B &amp; C, Table 8.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te:  Z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0.9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mplies shape of drop spectra changes systematically with 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  this formula still gives rainfall &gt;0 when Z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D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s &lt;0dB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0000"/>
                </a:solidFill>
                <a:uFillTx/>
                <a:latin typeface="Arial"/>
              </a:rPr>
              <a:t>SYNTHETIC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To give best agreement with gau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   =  R(Z) / {0.4 + 5.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Z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d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-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1.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Ryzhkov et al, BAMS, 2005, eq A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ere R(Z) = 0.0172 Z 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0.71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     standard NEXR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te that if Z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d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lin) = 1, then                              R = 2.5 (R(Z)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t when Z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d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lin )&lt;1  (Z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DR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–ve in dB)   then     R  &lt; 2.5 (R(Z)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QUESTION: What does the use 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|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 Z</a:t>
            </a:r>
            <a:r>
              <a:rPr b="1" lang="en-GB" sz="1800" spc="-1" strike="noStrike" baseline="-25000">
                <a:solidFill>
                  <a:srgbClr val="333399"/>
                </a:solidFill>
                <a:latin typeface="Arial"/>
              </a:rPr>
              <a:t>dr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 -1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|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 mean physically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FOR ALL THESE METHODS  Z MUST BE CALIBRATED TO </a:t>
            </a:r>
            <a:r>
              <a:rPr b="1" lang="en-GB" sz="2000" spc="-1" strike="noStrike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0.5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A057-18AD-4717-AE98-77E088EA9E5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alibration of Z using  redundancy of Z,  Z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DR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and K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DP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in rain.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coincidence the ratio of 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DP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rain is a unique function of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D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hich is relatively insensitive to changes in the shape of the drop spectru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395280" y="1824120"/>
            <a:ext cx="6121440" cy="503388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2539080" y="2800440"/>
            <a:ext cx="215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Wrong ‘linear’ dro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sha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258560" y="5157720"/>
            <a:ext cx="24314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 – exponential 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  -   gamma    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= 5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292720" y="2349360"/>
            <a:ext cx="3635280" cy="30618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At each gate observe              Z and ZDR and calculate theoretical K</a:t>
            </a:r>
            <a:r>
              <a:rPr b="0" lang="en-US" sz="1800" spc="-1" strike="noStrike" baseline="-25000">
                <a:solidFill>
                  <a:srgbClr val="006600"/>
                </a:solidFill>
                <a:latin typeface="Arial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From theoretical K 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Arial"/>
              </a:rPr>
              <a:t>DP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find the </a:t>
            </a:r>
            <a:r>
              <a:rPr b="0" lang="en-US" sz="1800" spc="-1" strike="noStrike">
                <a:solidFill>
                  <a:srgbClr val="009999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Arial"/>
              </a:rPr>
              <a:t>DP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at each g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Add up all </a:t>
            </a:r>
            <a:r>
              <a:rPr b="0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 baseline="-25000">
                <a:solidFill>
                  <a:srgbClr val="006600"/>
                </a:solidFill>
                <a:latin typeface="Arial"/>
              </a:rPr>
              <a:t>DP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to give total  </a:t>
            </a:r>
            <a:r>
              <a:rPr b="0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</a:t>
            </a:r>
            <a:r>
              <a:rPr b="0" lang="en-US" sz="1800" spc="-1" strike="noStrike" baseline="-25000">
                <a:solidFill>
                  <a:srgbClr val="006600"/>
                </a:solidFill>
                <a:latin typeface="Arial"/>
              </a:rPr>
              <a:t>DP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and compare with observed </a:t>
            </a:r>
            <a:r>
              <a:rPr b="0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</a:t>
            </a:r>
            <a:r>
              <a:rPr b="0" lang="en-US" sz="1800" spc="-1" strike="noStrike" baseline="-25000">
                <a:solidFill>
                  <a:srgbClr val="006600"/>
                </a:solidFill>
                <a:latin typeface="Arial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Adjust Z so that they agre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24E0-A75A-47C1-B091-6C6841F5AE1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CALIBRATION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733920" y="3048120"/>
            <a:ext cx="3124080" cy="37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-468360" y="2133720"/>
            <a:ext cx="6808680" cy="39672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171720" y="758880"/>
            <a:ext cx="67705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total phase shift along  ray is 25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just Z, so that phase shift calculated from obser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 and 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grees with observed phase shif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201000" y="4221000"/>
            <a:ext cx="2936160" cy="2051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n calibrate Z to 0.5dB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Use lots of rays to che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f redundancy fails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is suggests hail is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e beam – use K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DP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lculate the rainfall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232320" y="2133720"/>
            <a:ext cx="290880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Advant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Avoids the use of the noi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observed value of  K </a:t>
            </a:r>
            <a:r>
              <a:rPr b="0" lang="en-US" sz="1800" spc="-1" strike="noStrike" baseline="-25000">
                <a:solidFill>
                  <a:srgbClr val="006600"/>
                </a:solidFill>
                <a:latin typeface="Arial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792920" y="344952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763640" y="6237360"/>
            <a:ext cx="100800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602720" y="6329520"/>
            <a:ext cx="13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avy r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9B3C-B320-46EB-A5DB-0DD8E167A44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7854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ainfall  from K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DP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d Z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DR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79280" y="692280"/>
            <a:ext cx="822960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69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 (K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D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, Z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DR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  = a K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DP</a:t>
            </a:r>
            <a:r>
              <a:rPr b="1" lang="en-GB" sz="18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Z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DR</a:t>
            </a:r>
            <a:r>
              <a:rPr b="1" lang="en-GB" sz="18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9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as  been proposed  – where does it come from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9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0000"/>
                </a:solidFill>
                <a:uFillTx/>
                <a:latin typeface="Arial"/>
              </a:rPr>
              <a:t>PHYSICAL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D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is proportional to the difference in the forward scattering amplitudes at horizontal and vertical polaris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9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drop shape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drop size,  then the difference in amplitude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mean siz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9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total amplitude is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liquid water volume (LWV)  </a:t>
            </a: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= (</a:t>
            </a:r>
            <a:r>
              <a:rPr b="1" lang="en-GB" sz="1800" spc="-1" strike="noStrike">
                <a:solidFill>
                  <a:srgbClr val="006600"/>
                </a:solidFill>
                <a:latin typeface="Symbol"/>
                <a:ea typeface="Symbol"/>
              </a:rPr>
              <a:t></a:t>
            </a: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 N(D) D</a:t>
            </a:r>
            <a:r>
              <a:rPr b="1" lang="en-GB" sz="1800" spc="-1" strike="noStrike" baseline="30000">
                <a:solidFill>
                  <a:srgbClr val="006600"/>
                </a:solidFill>
                <a:latin typeface="Arial"/>
              </a:rPr>
              <a:t>3</a:t>
            </a: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 dD</a:t>
            </a:r>
            <a:r>
              <a:rPr b="0" lang="en-GB" sz="1800" spc="-1" strike="noStrike">
                <a:solidFill>
                  <a:srgbClr val="0066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9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ading to   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1" lang="en-GB" sz="1800" spc="-1" strike="noStrike" baseline="-25000">
                <a:solidFill>
                  <a:srgbClr val="ff0000"/>
                </a:solidFill>
                <a:latin typeface="Arial"/>
              </a:rPr>
              <a:t>DP   </a:t>
            </a:r>
            <a:r>
              <a:rPr b="1" lang="en-GB" sz="1800" spc="-1" strike="noStrike">
                <a:solidFill>
                  <a:srgbClr val="ff0000"/>
                </a:solidFill>
                <a:latin typeface="Symbol"/>
                <a:ea typeface="Symbol"/>
              </a:rPr>
              <a:t>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   D</a:t>
            </a:r>
            <a:r>
              <a:rPr b="1" lang="en-GB" sz="1800" spc="-1" strike="noStrike" baseline="-25000">
                <a:solidFill>
                  <a:srgbClr val="ff0000"/>
                </a:solidFill>
                <a:latin typeface="Arial"/>
              </a:rPr>
              <a:t>0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  LWV      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B&amp;C, Eq 7.1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9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ow,      R 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(</a:t>
            </a:r>
            <a:r>
              <a:rPr b="1" lang="en-GB" sz="1800" spc="-1" strike="noStrike">
                <a:solidFill>
                  <a:srgbClr val="006600"/>
                </a:solidFill>
                <a:latin typeface="Symbol"/>
                <a:ea typeface="Symbol"/>
              </a:rPr>
              <a:t></a:t>
            </a: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 N(D) D</a:t>
            </a:r>
            <a:r>
              <a:rPr b="1" lang="en-GB" sz="1800" spc="-1" strike="noStrike" baseline="30000">
                <a:solidFill>
                  <a:srgbClr val="006600"/>
                </a:solidFill>
                <a:latin typeface="Arial"/>
              </a:rPr>
              <a:t>3.67</a:t>
            </a: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 dD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and  LWV 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(</a:t>
            </a:r>
            <a:r>
              <a:rPr b="1" lang="en-GB" sz="1800" spc="-1" strike="noStrike">
                <a:solidFill>
                  <a:srgbClr val="006600"/>
                </a:solidFill>
                <a:latin typeface="Symbol"/>
                <a:ea typeface="Symbol"/>
              </a:rPr>
              <a:t></a:t>
            </a: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 N(D) D</a:t>
            </a:r>
            <a:r>
              <a:rPr b="1" lang="en-GB" sz="1800" spc="-1" strike="noStrike" baseline="30000">
                <a:solidFill>
                  <a:srgbClr val="006600"/>
                </a:solidFill>
                <a:latin typeface="Arial"/>
              </a:rPr>
              <a:t>3</a:t>
            </a: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 dD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9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tegrating over an exponential size distribution gives us  R =  LWV </a:t>
            </a:r>
            <a:r>
              <a:rPr b="1" lang="en-GB" sz="1800" spc="-1" strike="noStrike" baseline="30000">
                <a:solidFill>
                  <a:srgbClr val="000000"/>
                </a:solidFill>
                <a:latin typeface="Arial"/>
              </a:rPr>
              <a:t>4.67/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9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0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s related to   Z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DR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so we have: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R (K</a:t>
            </a:r>
            <a:r>
              <a:rPr b="1" lang="en-GB" sz="1800" spc="-1" strike="noStrike" baseline="-25000">
                <a:solidFill>
                  <a:srgbClr val="ff0000"/>
                </a:solidFill>
                <a:latin typeface="Arial"/>
              </a:rPr>
              <a:t>DP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, Z</a:t>
            </a:r>
            <a:r>
              <a:rPr b="1" lang="en-GB" sz="1800" spc="-1" strike="noStrike" baseline="-25000">
                <a:solidFill>
                  <a:srgbClr val="ff0000"/>
                </a:solidFill>
                <a:latin typeface="Arial"/>
              </a:rPr>
              <a:t>DR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) = a K</a:t>
            </a:r>
            <a:r>
              <a:rPr b="1" lang="en-GB" sz="1800" spc="-1" strike="noStrike" baseline="-25000">
                <a:solidFill>
                  <a:srgbClr val="ff0000"/>
                </a:solidFill>
                <a:latin typeface="Arial"/>
              </a:rPr>
              <a:t>DP</a:t>
            </a:r>
            <a:r>
              <a:rPr b="1" lang="en-GB" sz="1800" spc="-1" strike="noStrike" baseline="30000">
                <a:solidFill>
                  <a:srgbClr val="ff0000"/>
                </a:solidFill>
                <a:latin typeface="Arial"/>
              </a:rPr>
              <a:t>a</a:t>
            </a:r>
            <a:r>
              <a:rPr b="1" lang="en-GB" sz="1800" spc="-1" strike="noStrike" baseline="-25000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 Z</a:t>
            </a:r>
            <a:r>
              <a:rPr b="1" lang="en-GB" sz="1800" spc="-1" strike="noStrike" baseline="-25000">
                <a:solidFill>
                  <a:srgbClr val="ff0000"/>
                </a:solidFill>
                <a:latin typeface="Arial"/>
              </a:rPr>
              <a:t>DR</a:t>
            </a:r>
            <a:r>
              <a:rPr b="1" lang="en-GB" sz="1800" spc="-1" strike="noStrike" baseline="30000">
                <a:solidFill>
                  <a:srgbClr val="ff0000"/>
                </a:solidFill>
                <a:latin typeface="Arial"/>
              </a:rPr>
              <a:t>b</a:t>
            </a:r>
            <a:r>
              <a:rPr b="1" lang="en-GB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(B &amp; C, Eq 8.1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9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 avoid  large errors as Z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DR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in dB approaches zero, express in linear Z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dr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9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0000"/>
                </a:solidFill>
                <a:uFillTx/>
                <a:latin typeface="Arial"/>
              </a:rPr>
              <a:t>EMPIRICAL 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(K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D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, Z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Dr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  = 90.8 K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DP</a:t>
            </a:r>
            <a:r>
              <a:rPr b="1" lang="en-GB" sz="1800" spc="-1" strike="noStrike" baseline="30000">
                <a:solidFill>
                  <a:srgbClr val="000000"/>
                </a:solidFill>
                <a:latin typeface="Arial"/>
              </a:rPr>
              <a:t>0.93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Z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dr</a:t>
            </a:r>
            <a:r>
              <a:rPr b="1" lang="en-GB" sz="1800" spc="-1" strike="noStrike" baseline="30000">
                <a:solidFill>
                  <a:srgbClr val="000000"/>
                </a:solidFill>
                <a:latin typeface="Arial"/>
              </a:rPr>
              <a:t>-1.69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B&amp;C, Table 8.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9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from fits of R, K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D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DR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calculated from rain spectr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9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QUESTION: HAS THIS REALLY BEEN VALIDAT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9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0000"/>
                </a:solidFill>
                <a:uFillTx/>
                <a:latin typeface="Arial"/>
              </a:rPr>
              <a:t>SYNTHETI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o give best agreement with gauges for R&gt;6mm/h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9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   =  R(K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D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 / {0.4 + 3.5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Z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dr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-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1" lang="en-GB" sz="1800" spc="-1" strike="noStrike" baseline="30000">
                <a:solidFill>
                  <a:srgbClr val="000000"/>
                </a:solidFill>
                <a:latin typeface="Arial"/>
              </a:rPr>
              <a:t>1.7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(BAMS, 2005, Eq A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9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ere R(K 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DP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=44.0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|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0" lang="en-GB" sz="1800" spc="-1" strike="noStrike" baseline="-25000">
                <a:solidFill>
                  <a:srgbClr val="ff0000"/>
                </a:solidFill>
                <a:latin typeface="Arial"/>
              </a:rPr>
              <a:t>DP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|</a:t>
            </a:r>
            <a:r>
              <a:rPr b="0" lang="en-GB" sz="1800" spc="-1" strike="noStrike" baseline="30000">
                <a:solidFill>
                  <a:srgbClr val="ff0000"/>
                </a:solidFill>
                <a:latin typeface="Arial"/>
              </a:rPr>
              <a:t>0.822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 sign(K</a:t>
            </a:r>
            <a:r>
              <a:rPr b="0" lang="en-GB" sz="1800" spc="-1" strike="noStrike" baseline="-25000">
                <a:solidFill>
                  <a:srgbClr val="ff0000"/>
                </a:solidFill>
                <a:latin typeface="Arial"/>
              </a:rPr>
              <a:t>DP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PHYSICAL JUSTIFICATION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9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9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QUESTION: Does this work for hail?  K</a:t>
            </a:r>
            <a:r>
              <a:rPr b="1" lang="en-GB" sz="1800" spc="-1" strike="noStrike" baseline="-25000">
                <a:solidFill>
                  <a:srgbClr val="333399"/>
                </a:solidFill>
                <a:latin typeface="Arial"/>
              </a:rPr>
              <a:t>DP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 unaffected by hail, but Z</a:t>
            </a:r>
            <a:r>
              <a:rPr b="1" lang="en-GB" sz="1800" spc="-1" strike="noStrike" baseline="-25000">
                <a:solidFill>
                  <a:srgbClr val="333399"/>
                </a:solidFill>
                <a:latin typeface="Arial"/>
              </a:rPr>
              <a:t>DR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 values are unreliable in hail – empirical fits from raindrop spectr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9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Does it seem bold to throw away Z for R &gt; 6mm/h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0675-7D72-43FC-8D28-C97D86CC970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90080"/>
            <a:ext cx="91440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1.Difficulties in finding R from Z alone:</a:t>
            </a:r>
            <a:br>
              <a:rPr sz="3600"/>
            </a:br>
            <a:r>
              <a:rPr b="0" lang="en-GB" sz="2800" spc="-1" strike="noStrike">
                <a:solidFill>
                  <a:srgbClr val="006600"/>
                </a:solidFill>
                <a:latin typeface="Arial"/>
              </a:rPr>
              <a:t>Empirical: Z = a R</a:t>
            </a:r>
            <a:r>
              <a:rPr b="0" lang="en-GB" sz="2800" spc="-1" strike="noStrike" baseline="30000">
                <a:solidFill>
                  <a:srgbClr val="006600"/>
                </a:solidFill>
                <a:latin typeface="Arial"/>
              </a:rPr>
              <a:t>b  </a:t>
            </a:r>
            <a:r>
              <a:rPr b="0" lang="en-GB" sz="2800" spc="-1" strike="noStrike">
                <a:solidFill>
                  <a:srgbClr val="006600"/>
                </a:solidFill>
                <a:latin typeface="Arial"/>
              </a:rPr>
              <a:t> (e.g. Z= 300 R</a:t>
            </a:r>
            <a:r>
              <a:rPr b="0" lang="en-GB" sz="2800" spc="-1" strike="noStrike" baseline="30000">
                <a:solidFill>
                  <a:srgbClr val="006600"/>
                </a:solidFill>
                <a:latin typeface="Arial"/>
              </a:rPr>
              <a:t>1.4</a:t>
            </a:r>
            <a:r>
              <a:rPr b="0" lang="en-GB" sz="2800" spc="-1" strike="noStrike">
                <a:solidFill>
                  <a:srgbClr val="006600"/>
                </a:solidFill>
                <a:latin typeface="Arial"/>
              </a:rPr>
              <a:t>, Nexr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07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nd clutter.  Anomalous Propagation,  birds, insects, aircraft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certainty in Z calib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-R relations changes for different raindrop size spectr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E BEAM FILLED WITH  RAI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km range: 1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am - 2km wide:  200km range,  earth curvature &gt;3k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MER TIME - &lt;100km range.  Should be in the r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ld have some hail. (Big Z, but often low R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TER TIME – VERTICAL PROFILE OF 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ight band – Z is high in melting snow. (&gt;Z(rain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 Z in the dry ice above the melting layer &lt; Z(rain).  CHAND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9DB8-0BF6-4F9B-BC5C-29209901B09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78544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5. Unwanted Backscatter and attenuation effects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S-B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Mie scatter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by large oblate hydrometeors.  Envisage this as the H and V dipoles being displaced in space.  This leads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hase shift on backscatter – causes a local max (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, in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wer correlation and so increased noise in the estima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wer correlation can help to identify large ha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6600"/>
                </a:solidFill>
                <a:uFillTx/>
                <a:latin typeface="Arial"/>
              </a:rPr>
              <a:t>Solutio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– smooth the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DP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remove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high Z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DR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in,   Z 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DR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so use value of Z 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DR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remove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Attenua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can be significant in very heavy rain. Oblate drops so more attenuation in H than V, decreases Z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D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can even go &lt;0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6600"/>
                </a:solidFill>
                <a:uFillTx/>
                <a:latin typeface="Arial"/>
              </a:rPr>
              <a:t>Solution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Attenuation is related to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DP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.g. 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(dB) = 0.04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DP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  and  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 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D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dB)= 0.004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DP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Ryzhkov and Zrnic, JAM, 1995, and  see  B &amp; C,  table 7.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333399"/>
                </a:solidFill>
                <a:uFillTx/>
                <a:latin typeface="Arial"/>
              </a:rPr>
              <a:t>Question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.  This assumes that wet tumbling hail which gives no </a:t>
            </a:r>
            <a:r>
              <a:rPr b="1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</a:t>
            </a:r>
            <a:r>
              <a:rPr b="1" lang="en-GB" sz="2000" spc="-1" strike="noStrike" baseline="-25000">
                <a:solidFill>
                  <a:srgbClr val="333399"/>
                </a:solidFill>
                <a:latin typeface="Arial"/>
              </a:rPr>
              <a:t>DP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, does not attenuate Z.  Does this matter?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5BD4-A0C7-4BB7-A2E7-A432F0340E9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78544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Use of C and X ban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C-BAND (5.6cm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0000"/>
                </a:solidFill>
                <a:uFillTx/>
                <a:latin typeface="Arial"/>
              </a:rPr>
              <a:t>Widespread in Europe, Canada, Japa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tenna diameter halved – so volume/cost down by eig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 u="sng">
                <a:solidFill>
                  <a:srgbClr val="ff0000"/>
                </a:solidFill>
                <a:uFillTx/>
                <a:latin typeface="Arial"/>
              </a:rPr>
              <a:t>Attenuation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y rain about ten times worse than S-ban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spcBef>
                <a:spcPts val="4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6600"/>
                </a:solidFill>
                <a:uFillTx/>
                <a:latin typeface="Arial"/>
              </a:rPr>
              <a:t>Solution</a:t>
            </a:r>
            <a:r>
              <a:rPr b="1" lang="en-GB" sz="1800" spc="-1" strike="noStrike" u="sng">
                <a:solidFill>
                  <a:srgbClr val="333399"/>
                </a:solidFill>
                <a:uFillTx/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– use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DP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correct for attenu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(dB) = 0.073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DP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   &amp; 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 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D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dB)= 0.013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DP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.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B&amp;C, Table 7.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5119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member attenuation varies with  temp,  phase shift does no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5119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lso  Mie scattering  (big drops, high Z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Arial"/>
              </a:rPr>
              <a:t>DR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) give more attenu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5119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ig drops, high Z 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Arial"/>
              </a:rPr>
              <a:t>DR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, so use value of Z 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Arial"/>
              </a:rPr>
              <a:t>DR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o remove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X-BAND (3cm)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 – ‘cheap’ fill-in radars for NEXRAD?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0000"/>
                </a:solidFill>
                <a:uFillTx/>
                <a:latin typeface="Arial"/>
              </a:rPr>
              <a:t>Attenuatio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enormous,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.4dB/km 2-way for 30mm/hr and f(Temp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se phase shift to correct for (say) 20dB of attenuation? Careful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DP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frequency, so K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DP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is larger.  OK for lower rain rate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 backscatter worse.  (Scott et al, J Tech, 2001).   Suggested correction: 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=0.027Z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D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+0.77Z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DR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Gosset, J Tech, 200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rea of active research.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QUESTION: IS THIS REALLY A GOOD IDE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3C22-BE55-472D-B23F-9883386D934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190440"/>
            <a:ext cx="91440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5.  SUMMARY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77724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arisation good for rejecting non-meteorological echo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-BAND – Summer convective stor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ipitation signals are noisy for operational rada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ial  phase shift,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oes not respond to hail, and gives improved rainfall rates (for high R) when hail is pres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tatus of algorithms deriving R from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uncertain. 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P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noisy,  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ffected by hail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and 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hould yield better value of R than from Z al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not use 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t each gate – can go negat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catter of Z and 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fix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hence ‘a’ in Z = a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o recognise hail and calibrate Z to better than 1dB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dundancy of Z, Z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K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rain should enable Z to be absolutely calibrated and hail to be recogni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Winter time – bright band and vertical profile correction schem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arisation parameters can recognise melting snow and flag the high Z values in the bright b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5892-66F2-4224-B51D-9F8C4D4F260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90080"/>
            <a:ext cx="914400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Physical origin of Z-R relationship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981000"/>
            <a:ext cx="8207280" cy="5572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sume exponential drop size spectru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cc00"/>
                </a:solidFill>
                <a:latin typeface="Arial"/>
              </a:rPr>
              <a:t>N(D) = N</a:t>
            </a:r>
            <a:r>
              <a:rPr b="0" lang="en-GB" sz="1800" spc="-1" strike="noStrike" baseline="-25000">
                <a:solidFill>
                  <a:srgbClr val="00cc00"/>
                </a:solidFill>
                <a:latin typeface="Arial"/>
              </a:rPr>
              <a:t>o</a:t>
            </a:r>
            <a:r>
              <a:rPr b="0" lang="en-GB" sz="1800" spc="-1" strike="noStrike">
                <a:solidFill>
                  <a:srgbClr val="00cc00"/>
                </a:solidFill>
                <a:latin typeface="Arial"/>
              </a:rPr>
              <a:t> exp(-3.67D/D</a:t>
            </a:r>
            <a:r>
              <a:rPr b="0" lang="en-GB" sz="1800" spc="-1" strike="noStrike" baseline="-25000">
                <a:solidFill>
                  <a:srgbClr val="00cc00"/>
                </a:solidFill>
                <a:latin typeface="Arial"/>
              </a:rPr>
              <a:t>0</a:t>
            </a:r>
            <a:r>
              <a:rPr b="0" lang="en-GB" sz="1800" spc="-1" strike="noStrike">
                <a:solidFill>
                  <a:srgbClr val="00cc00"/>
                </a:solidFill>
                <a:latin typeface="Arial"/>
              </a:rPr>
              <a:t>)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D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s median volume diameter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6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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(D) 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V(D) dD  =  p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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3.67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(-3.67D/D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 dD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if  V(D)</a:t>
            </a:r>
            <a:r>
              <a:rPr b="0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0.67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1800" spc="-1" strike="noStrike">
                <a:solidFill>
                  <a:srgbClr val="00cc00"/>
                </a:solidFill>
                <a:latin typeface="Arial"/>
              </a:rPr>
              <a:t>= q   N</a:t>
            </a:r>
            <a:r>
              <a:rPr b="1" lang="en-GB" sz="1800" spc="-1" strike="noStrike" baseline="-25000">
                <a:solidFill>
                  <a:srgbClr val="00cc00"/>
                </a:solidFill>
                <a:latin typeface="Arial"/>
              </a:rPr>
              <a:t>0</a:t>
            </a:r>
            <a:r>
              <a:rPr b="1" lang="en-GB" sz="1800" spc="-1" strike="noStrike">
                <a:solidFill>
                  <a:srgbClr val="00cc00"/>
                </a:solidFill>
                <a:latin typeface="Arial"/>
              </a:rPr>
              <a:t> D</a:t>
            </a:r>
            <a:r>
              <a:rPr b="1" lang="en-GB" sz="1800" spc="-1" strike="noStrike" baseline="-25000">
                <a:solidFill>
                  <a:srgbClr val="00cc00"/>
                </a:solidFill>
                <a:latin typeface="Arial"/>
              </a:rPr>
              <a:t>0</a:t>
            </a:r>
            <a:r>
              <a:rPr b="1" lang="en-GB" sz="1800" spc="-1" strike="noStrike" baseline="30000">
                <a:solidFill>
                  <a:srgbClr val="00cc00"/>
                </a:solidFill>
                <a:latin typeface="Arial"/>
              </a:rPr>
              <a:t>4.67                                                  </a:t>
            </a:r>
            <a:r>
              <a:rPr b="1" lang="en-GB" sz="1800" spc="-1" strike="noStrike">
                <a:solidFill>
                  <a:srgbClr val="00cc00"/>
                </a:solidFill>
                <a:latin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Z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=   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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(D) 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dD              = 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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6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(-3.67D/D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 d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en-GB" sz="1800" spc="-1" strike="noStrike">
                <a:solidFill>
                  <a:srgbClr val="00cc00"/>
                </a:solidFill>
                <a:latin typeface="Arial"/>
              </a:rPr>
              <a:t>=  </a:t>
            </a:r>
            <a:r>
              <a:rPr b="1" lang="en-GB" sz="1800" spc="-1" strike="noStrike">
                <a:solidFill>
                  <a:srgbClr val="00cc00"/>
                </a:solidFill>
                <a:latin typeface="Arial"/>
              </a:rPr>
              <a:t>r    N</a:t>
            </a:r>
            <a:r>
              <a:rPr b="1" lang="en-GB" sz="1800" spc="-1" strike="noStrike" baseline="-25000">
                <a:solidFill>
                  <a:srgbClr val="00cc00"/>
                </a:solidFill>
                <a:latin typeface="Arial"/>
              </a:rPr>
              <a:t>0</a:t>
            </a:r>
            <a:r>
              <a:rPr b="1" lang="en-GB" sz="1800" spc="-1" strike="noStrike">
                <a:solidFill>
                  <a:srgbClr val="00cc00"/>
                </a:solidFill>
                <a:latin typeface="Arial"/>
              </a:rPr>
              <a:t> D</a:t>
            </a:r>
            <a:r>
              <a:rPr b="1" lang="en-GB" sz="1800" spc="-1" strike="noStrike" baseline="-25000">
                <a:solidFill>
                  <a:srgbClr val="00cc00"/>
                </a:solidFill>
                <a:latin typeface="Arial"/>
              </a:rPr>
              <a:t>0</a:t>
            </a:r>
            <a:r>
              <a:rPr b="1" lang="en-GB" sz="1800" spc="-1" strike="noStrike" baseline="30000">
                <a:solidFill>
                  <a:srgbClr val="00cc00"/>
                </a:solidFill>
                <a:latin typeface="Arial"/>
              </a:rPr>
              <a:t>7                                                          </a:t>
            </a:r>
            <a:r>
              <a:rPr b="1" lang="en-GB" sz="1800" spc="-1" strike="noStrike">
                <a:solidFill>
                  <a:srgbClr val="00cc00"/>
                </a:solidFill>
                <a:latin typeface="Arial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liminate D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(1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(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:  Z =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 (N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/N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GB" sz="1800" spc="-1" strike="noStrike" baseline="30000">
                <a:solidFill>
                  <a:srgbClr val="000000"/>
                </a:solidFill>
                <a:latin typeface="Arial"/>
              </a:rPr>
              <a:t>7/(4.67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 R</a:t>
            </a:r>
            <a:r>
              <a:rPr b="1" lang="en-GB" sz="1800" spc="-1" strike="noStrike" baseline="30000">
                <a:solidFill>
                  <a:srgbClr val="000000"/>
                </a:solidFill>
                <a:latin typeface="Arial"/>
              </a:rPr>
              <a:t>7/4.67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(q, r, s constan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t 7/4.67 = 1.5 so:    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Z =  s (1/ </a:t>
            </a:r>
            <a:r>
              <a:rPr b="1" lang="en-GB" sz="1800" spc="-1" strike="noStrike">
                <a:solidFill>
                  <a:srgbClr val="ff0000"/>
                </a:solidFill>
                <a:latin typeface="Symbol"/>
                <a:ea typeface="Symbol"/>
              </a:rPr>
              <a:t></a:t>
            </a:r>
            <a:r>
              <a:rPr b="1" lang="en-GB" sz="1800" spc="-1" strike="noStrike" u="sng">
                <a:solidFill>
                  <a:srgbClr val="ff0000"/>
                </a:solidFill>
                <a:uFillTx/>
                <a:latin typeface="Arial"/>
              </a:rPr>
              <a:t>N</a:t>
            </a:r>
            <a:r>
              <a:rPr b="1" lang="en-GB" sz="1800" spc="-1" strike="noStrike" u="sng" baseline="-25000">
                <a:solidFill>
                  <a:srgbClr val="ff0000"/>
                </a:solidFill>
                <a:uFillTx/>
                <a:latin typeface="Arial"/>
              </a:rPr>
              <a:t>0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)  R</a:t>
            </a:r>
            <a:r>
              <a:rPr b="1" lang="en-GB" sz="1800" spc="-1" strike="noStrike" baseline="30000">
                <a:solidFill>
                  <a:srgbClr val="ff0000"/>
                </a:solidFill>
                <a:latin typeface="Arial"/>
              </a:rPr>
              <a:t>1.5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  = a</a:t>
            </a:r>
            <a:r>
              <a:rPr b="1" lang="en-GB" sz="1800" spc="-1" strike="noStrike" u="sng">
                <a:solidFill>
                  <a:srgbClr val="ff0000"/>
                </a:solidFill>
                <a:uFillTx/>
                <a:latin typeface="Arial"/>
              </a:rPr>
              <a:t> R </a:t>
            </a:r>
            <a:r>
              <a:rPr b="1" lang="en-GB" sz="1800" spc="-1" strike="noStrike" u="sng" baseline="30000">
                <a:solidFill>
                  <a:srgbClr val="ff0000"/>
                </a:solidFill>
                <a:uFillTx/>
                <a:latin typeface="Arial"/>
              </a:rPr>
              <a:t>b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 ‘a’ varies as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(1/ </a:t>
            </a:r>
            <a:r>
              <a:rPr b="1" lang="en-GB" sz="1800" spc="-1" strike="noStrike">
                <a:solidFill>
                  <a:srgbClr val="ff0000"/>
                </a:solidFill>
                <a:latin typeface="Symbol"/>
                <a:ea typeface="Symbol"/>
              </a:rPr>
              <a:t>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GB" sz="1800" spc="-1" strike="noStrike" baseline="-25000">
                <a:solidFill>
                  <a:srgbClr val="ff0000"/>
                </a:solidFill>
                <a:latin typeface="Arial"/>
              </a:rPr>
              <a:t>0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and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b = 1.5 if </a:t>
            </a:r>
            <a:r>
              <a:rPr b="1" lang="en-GB" sz="1800" spc="-1" strike="noStrike" u="sng">
                <a:solidFill>
                  <a:srgbClr val="ff0000"/>
                </a:solidFill>
                <a:uFillTx/>
                <a:latin typeface="Arial"/>
              </a:rPr>
              <a:t>N</a:t>
            </a:r>
            <a:r>
              <a:rPr b="1" lang="en-GB" sz="1800" spc="-1" strike="noStrike" u="sng" baseline="-25000">
                <a:solidFill>
                  <a:srgbClr val="ff0000"/>
                </a:solidFill>
                <a:uFillTx/>
                <a:latin typeface="Arial"/>
              </a:rPr>
              <a:t>0  </a:t>
            </a:r>
            <a:r>
              <a:rPr b="1" lang="en-GB" sz="1800" spc="-1" strike="noStrike" u="sng">
                <a:solidFill>
                  <a:srgbClr val="ff0000"/>
                </a:solidFill>
                <a:uFillTx/>
                <a:latin typeface="Arial"/>
              </a:rPr>
              <a:t>is not a function of D </a:t>
            </a:r>
            <a:r>
              <a:rPr b="1" lang="en-GB" sz="1800" spc="-1" strike="noStrike" u="sng" baseline="-25000">
                <a:solidFill>
                  <a:srgbClr val="ff0000"/>
                </a:solidFill>
                <a:uFillTx/>
                <a:latin typeface="Arial"/>
              </a:rPr>
              <a:t>0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opical rain:                             </a:t>
            </a:r>
            <a:r>
              <a:rPr b="1" lang="en-GB" sz="1800" spc="-1" strike="noStrike" u="sng">
                <a:solidFill>
                  <a:srgbClr val="00cc00"/>
                </a:solidFill>
                <a:uFillTx/>
                <a:latin typeface="Arial"/>
              </a:rPr>
              <a:t>N</a:t>
            </a:r>
            <a:r>
              <a:rPr b="1" lang="en-GB" sz="1800" spc="-1" strike="noStrike" u="sng" baseline="-25000">
                <a:solidFill>
                  <a:srgbClr val="00cc00"/>
                </a:solidFill>
                <a:uFillTx/>
                <a:latin typeface="Arial"/>
              </a:rPr>
              <a:t>0  </a:t>
            </a:r>
            <a:r>
              <a:rPr b="1" lang="en-GB" sz="1800" spc="-1" strike="noStrike" u="sng">
                <a:solidFill>
                  <a:srgbClr val="00cc00"/>
                </a:solidFill>
                <a:uFillTx/>
                <a:latin typeface="Arial"/>
              </a:rPr>
              <a:t>increases as D</a:t>
            </a:r>
            <a:r>
              <a:rPr b="1" lang="en-GB" sz="1800" spc="-1" strike="noStrike" u="sng" baseline="-25000">
                <a:solidFill>
                  <a:srgbClr val="00cc00"/>
                </a:solidFill>
                <a:uFillTx/>
                <a:latin typeface="Arial"/>
              </a:rPr>
              <a:t>0</a:t>
            </a:r>
            <a:r>
              <a:rPr b="0" lang="en-GB" sz="1800" spc="-1" strike="noStrike">
                <a:solidFill>
                  <a:srgbClr val="00cc00"/>
                </a:solidFill>
                <a:latin typeface="Arial"/>
              </a:rPr>
              <a:t>        b =  1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ratiform rain, melting snow    </a:t>
            </a:r>
            <a:r>
              <a:rPr b="1" lang="en-GB" sz="1800" spc="-1" strike="noStrike" u="sng">
                <a:solidFill>
                  <a:srgbClr val="00cc00"/>
                </a:solidFill>
                <a:uFillTx/>
                <a:latin typeface="Arial"/>
              </a:rPr>
              <a:t>N</a:t>
            </a:r>
            <a:r>
              <a:rPr b="1" lang="en-GB" sz="1800" spc="-1" strike="noStrike" u="sng" baseline="-25000">
                <a:solidFill>
                  <a:srgbClr val="00cc00"/>
                </a:solidFill>
                <a:uFillTx/>
                <a:latin typeface="Arial"/>
              </a:rPr>
              <a:t>0  </a:t>
            </a:r>
            <a:r>
              <a:rPr b="1" lang="en-GB" sz="1800" spc="-1" strike="noStrike" u="sng">
                <a:solidFill>
                  <a:srgbClr val="00cc00"/>
                </a:solidFill>
                <a:uFillTx/>
                <a:latin typeface="Arial"/>
              </a:rPr>
              <a:t>decreases as 1/D</a:t>
            </a:r>
            <a:r>
              <a:rPr b="1" lang="en-GB" sz="1800" spc="-1" strike="noStrike" u="sng" baseline="-25000">
                <a:solidFill>
                  <a:srgbClr val="00cc00"/>
                </a:solidFill>
                <a:uFillTx/>
                <a:latin typeface="Arial"/>
              </a:rPr>
              <a:t>0</a:t>
            </a:r>
            <a:r>
              <a:rPr b="0" lang="en-GB" sz="1800" spc="-1" strike="noStrike">
                <a:solidFill>
                  <a:srgbClr val="00cc00"/>
                </a:solidFill>
                <a:latin typeface="Arial"/>
              </a:rPr>
              <a:t> :   b = 1.6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F36B-6503-465E-B169-03CB2A59EEA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190440"/>
            <a:ext cx="91440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EVALUATING RADAR RAINFALL RATE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88930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Arial"/>
              </a:rPr>
              <a:t>What is our specification?   Let’s aim for R to 25% (1dB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Arial"/>
              </a:rPr>
              <a:t>Traditionally done with hourly gauge tot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UT WHAT ABOUT THE SPATIAL AND TEMPORAL VARIABILITY OF RAINFALL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auge measures at a point – but radar a volum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nd drift – how high is the radar beam over the gaug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w often does a radar need to scan over the gauge in one hou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deally need a scan every 2.5 minute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can every 5 mins  -   error typically 20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can every 15 minutes  - error typically 40%, very po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QUESTION:  SO EVEN IF THE RADAR MEASURES THE RAINFALL PERFECTLY IT MAY NOT AGREE WITH THE GAUG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DF65-936E-44ED-A386-012EC7581E3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78544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XAMPLES FROM TWO POLARIMETRIC STU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randes et al (JAM, 2002)  Flori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(Z)  rms error 7.8 mm;  with polarisation, R(POL) - rms error 6.7 m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0920" y="1413000"/>
            <a:ext cx="8569080" cy="2502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yzhkov et al (JAM 2005,  BAMS,  2005)    ‘JPOLE’ in Oklahom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42 gauges, 50 hours data, mean hourly gauge rainfall 6.3 mm (lots of hail)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(Z)           R(P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rms error each gauge 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NEXRAD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 Z = 300 R</a:t>
            </a:r>
            <a:r>
              <a:rPr b="0" lang="en-GB" sz="2000" spc="-1" strike="noStrike" baseline="30000">
                <a:solidFill>
                  <a:srgbClr val="ff0000"/>
                </a:solidFill>
                <a:latin typeface="Arial"/>
              </a:rPr>
              <a:t>1.4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5.30mm      3.06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ms error each gauge ‘tuned’ Z = 527 R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1.4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4.05mm      3.06mm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rms error of average gauge rainfall (300R</a:t>
            </a:r>
            <a:r>
              <a:rPr b="0" lang="en-GB" sz="2000" spc="-1" strike="noStrike" baseline="30000">
                <a:solidFill>
                  <a:srgbClr val="333399"/>
                </a:solidFill>
                <a:latin typeface="Arial"/>
              </a:rPr>
              <a:t>1.4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0" lang="en-GB" sz="2000" spc="-1" strike="noStrike" baseline="30000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2.59mm      1.09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50920" y="3716280"/>
            <a:ext cx="3960720" cy="2676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859280" y="3716280"/>
            <a:ext cx="3529080" cy="29448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898320" y="3870360"/>
            <a:ext cx="881640" cy="4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00cc00"/>
                </a:solidFill>
                <a:latin typeface="Arial"/>
              </a:rPr>
              <a:t>Spring h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796000" y="4941720"/>
            <a:ext cx="1398600" cy="4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-25000">
                <a:solidFill>
                  <a:srgbClr val="00cc00"/>
                </a:solidFill>
                <a:latin typeface="Arial"/>
              </a:rPr>
              <a:t>Winter strati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06840" y="3211560"/>
            <a:ext cx="64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Question: Improvement only because hail reject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0002-AFEC-413E-BBAB-A8DA7F37FA5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90080"/>
            <a:ext cx="91440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2. DUAL POLARISATION PARAMETERS:</a:t>
            </a:r>
            <a:br>
              <a:rPr sz="2400"/>
            </a:b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  Z</a:t>
            </a:r>
            <a:r>
              <a:rPr b="1" lang="en-GB" sz="2400" spc="-1" strike="noStrike" baseline="-25000">
                <a:solidFill>
                  <a:srgbClr val="ff0000"/>
                </a:solidFill>
                <a:latin typeface="Arial"/>
              </a:rPr>
              <a:t>DR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,    </a:t>
            </a:r>
            <a:r>
              <a:rPr b="1" lang="en-GB" sz="2400" spc="-1" strike="noStrike">
                <a:solidFill>
                  <a:srgbClr val="ff0000"/>
                </a:solidFill>
                <a:latin typeface="Symbol"/>
                <a:ea typeface="Symbol"/>
              </a:rPr>
              <a:t></a:t>
            </a:r>
            <a:r>
              <a:rPr b="1" lang="en-GB" sz="2400" spc="-1" strike="noStrike" baseline="-25000">
                <a:solidFill>
                  <a:srgbClr val="ff0000"/>
                </a:solidFill>
                <a:latin typeface="Arial"/>
              </a:rPr>
              <a:t>DP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|K</a:t>
            </a:r>
            <a:r>
              <a:rPr b="1" lang="en-GB" sz="2400" spc="-1" strike="noStrike" baseline="-25000">
                <a:solidFill>
                  <a:srgbClr val="ff0000"/>
                </a:solidFill>
                <a:latin typeface="Arial"/>
              </a:rPr>
              <a:t>DP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,   </a:t>
            </a:r>
            <a:r>
              <a:rPr b="1" lang="en-GB" sz="2400" spc="-1" strike="noStrike">
                <a:solidFill>
                  <a:srgbClr val="ff0000"/>
                </a:solidFill>
                <a:latin typeface="Symbol"/>
                <a:ea typeface="Symbol"/>
              </a:rPr>
              <a:t></a:t>
            </a:r>
            <a:r>
              <a:rPr b="1" lang="en-GB" sz="2400" spc="-1" strike="noStrike" baseline="-25000">
                <a:solidFill>
                  <a:srgbClr val="ff0000"/>
                </a:solidFill>
                <a:latin typeface="Arial"/>
              </a:rPr>
              <a:t>hv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, and LDR </a:t>
            </a:r>
            <a:br>
              <a:rPr sz="2400"/>
            </a:b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 - using a simple dipole explanati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820728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mit simultaneous H and V polarised signals retur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.e. wave linearly polarised at 45 degre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eive amplitude and phase of  H and V polarised retu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itially S-band, 10cm wavel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ly Rayleigh scatt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ly negligible attenu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GB" sz="2000" spc="-1" strike="noStrike">
                <a:solidFill>
                  <a:srgbClr val="006600"/>
                </a:solidFill>
                <a:latin typeface="Arial"/>
              </a:rPr>
              <a:t>For brevity  ‘B&amp;C’ will refer to the boo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6600"/>
                </a:solidFill>
                <a:latin typeface="Arial"/>
              </a:rPr>
              <a:t>Bringi and Chandrasekhar, 2001, CUP p636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49D3-6FAC-4DC2-B294-A8F467BE815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8381880" y="3178080"/>
            <a:ext cx="914400" cy="195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28800" y="327672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181480"/>
            <a:ext cx="1828800" cy="1219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523880" y="4114800"/>
            <a:ext cx="83844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3124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2280" y="4038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632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105520" y="1676520"/>
            <a:ext cx="22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32000" y="1413000"/>
            <a:ext cx="563904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e Z observed with horizontal and vertically polarised  rad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0 log(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 magnitude of  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 ratio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s the  mean drop size, 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‘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 =  N 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’,     knowing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Z will give us 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concentration.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01080" y="1700280"/>
            <a:ext cx="137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380880"/>
            <a:ext cx="883908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DR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:   DIFFERENTIAL REFLECTIV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Measures mean shape of hydrometeors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03640" y="4941720"/>
            <a:ext cx="576108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QUESTION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: What if hail pres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AIL TUMBLES AS IT F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Z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= Z 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Z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DR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= 0dB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ail/rain mixture lowers  Z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DR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- so what is the apparent 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4A42-B75F-45E6-B422-747D2283CEE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DIFFERENTIAL PHASE SHIFT </a:t>
            </a:r>
            <a:r>
              <a:rPr b="0" lang="en-US" sz="4000" spc="-1" strike="noStrike">
                <a:solidFill>
                  <a:srgbClr val="ff0000"/>
                </a:solidFill>
                <a:latin typeface="Symbol"/>
                <a:ea typeface="Symbol"/>
              </a:rPr>
              <a:t></a:t>
            </a:r>
            <a:r>
              <a:rPr b="0" lang="en-US" sz="4000" spc="-1" strike="noStrike" baseline="-25000">
                <a:solidFill>
                  <a:srgbClr val="ff0000"/>
                </a:solidFill>
                <a:latin typeface="Arial"/>
              </a:rPr>
              <a:t>D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the H wave propagates through oblate raindrops it lags more and more behind the V wave and a phase difference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uilds 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7569360" cy="25448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11280" y="4724280"/>
            <a:ext cx="82296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radient of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th range is the specific differential phase shift,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measured in degrees per km.  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measure of 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IL – Tumbles as it falls, delays H and V waves the same, does not contribute to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which responds only to the rai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pends only on phase, unaffected by calibration err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267E-4CE2-4487-9B3A-3A20814AC3B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3T15:30:22Z</dcterms:created>
  <dc:creator>administrator</dc:creator>
  <dc:description/>
  <dc:language>en-US</dc:language>
  <cp:lastModifiedBy>Anthony</cp:lastModifiedBy>
  <dcterms:modified xsi:type="dcterms:W3CDTF">2005-10-23T17:45:08Z</dcterms:modified>
  <cp:revision>45</cp:revision>
  <dc:subject/>
  <dc:title>Slide 1</dc:title>
</cp:coreProperties>
</file>